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D7F-5A26-435B-869D-92A65D56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A30-04C2-469B-ADB5-9D9A3B49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A0781-7AD2-4A54-8A58-2863B306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A2273-7AD1-486C-B216-0E97A2D4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F758B-E388-400F-A6B9-3F38455B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24C75-CFEB-49A9-8486-FFC5252A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80BFC-B40F-44EF-812F-9EF8852E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620CE-A0F4-4A91-82F8-F7413FE0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50AB8-5427-4088-855D-3AFA8723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ED570-1DAE-4801-81A7-01491A39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C081E-1CCB-4AF4-8A6D-752B3A6B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F32CA-C8F4-4736-A206-CC7CD94D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F40-A0AE-4DB0-882E-4F7B7125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1CD61-DB5A-4FF9-82CF-9066DF5F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5D03C-D50C-4168-BBDF-731CDE5F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C0E9C-5512-487F-B468-F0756462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8E5AE-B909-475F-B5F4-DE3215E1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77050-5C5C-49AD-8C15-7CF8F9E4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1B3DE-5A28-4FBB-9ADE-53858720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BD583-5900-4B79-929D-C946FD4F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9B327-30F9-436D-807C-6CE0A387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C29BB-6FD3-4810-BB11-058528D1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4E3F7-729C-49AD-B0C5-2E1E201B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C4B-DB0F-42C4-878A-5415AC1D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BBB16-B84B-48DC-B6D9-093C06D8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F1322-09EF-4B49-BFAE-EFA1900E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6E09A-6653-401D-8F38-FA930858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24D8D-62B2-48BC-B748-0976A9BE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255AC-8FB4-4A41-BDB1-38028637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D3764-C122-44CB-9074-1F78DDD7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296D8-2B62-4098-AA8C-B8A6EA1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3A1D7-2998-491F-8E70-5394E011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7D37E-C967-4858-9120-760ADC96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AFD1E-87A0-4B48-A51C-E8FCE4C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F557-BCF2-42D3-A64E-C8B8EA3D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60696-09FA-425C-85B6-7569C87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221F6-8167-4710-9454-75342EE9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00289-FDB2-4293-9A76-8CC9A916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DC29C-2FBD-491A-832F-99FDF636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E8668-E514-49CB-9748-C38E3F1D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45C00-A76C-40FA-8ED3-C380A643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B4CA7-B51D-4EE9-B291-3ACC005F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4551C-0B9B-4FEC-9472-43CD43CF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601D2-698F-4D9B-A3B7-042C3C10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430FE-72D0-4D19-B128-1F2C5EC6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4000-E9ED-46D3-A6AD-12A81103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F9884-B164-4148-BE29-EA9B3C12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9C8BA-AA43-4525-9F1D-EE81D035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FA781-98B8-4709-9860-86DC8C60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50565-2B6F-4F08-ACB5-1B6EFA1F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38A30-8CD4-47A8-8BA7-1C77901C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B0B69-8EF1-46C7-BC9E-17DACEB8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825B9-F053-427B-B41D-AFD30D8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998B9-4F6A-495C-99B2-12548F3F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4E3AB-6202-4B2B-B2E3-12554BEF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29FA8-E3CC-4152-A851-F2AAE195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5DF6-3E72-4F5A-B3D0-3E8D7EC1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6390F-711D-4876-8D43-FE051900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A5D2B-4EA5-4F40-A58E-5AF3052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A5545-E933-4B9D-BE74-DF01F462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DB4B0-31AB-440A-8F04-BEDD1397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EAAEA-C600-461E-B5C7-0D413D52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D3FAA-0B22-4D73-8663-1537C556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29BBB-E58F-49FB-8BC2-30FAF460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DDA8-5692-4B8D-88BF-1A7AA4A0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1AEB-66E9-44C9-BFD2-1F3F7734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5C21-E3FC-470A-9A04-F3B8E163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454C-DAC7-4861-8077-FE019CFA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684-D5AD-4AA8-A4DD-EC18296B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FF1A-1D04-49CF-8EF1-408BC7E4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8CCE-493C-488D-B7F5-AEB47E7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2185-EEB5-4A08-9C0E-F5354A65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A278-EAB9-4061-A900-D57FA44B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9BF3-224A-4098-AF58-3964814D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6FF0-CC3E-431E-83EE-638D921D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BDF3-434D-4612-A142-F3EB1F00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6CC5F-AC7A-44DC-AE86-752CE509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9B62-2742-4C3A-9114-CF77B6CA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054A-9F3C-4079-A77C-05D89B30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6A9-858A-4618-9534-35CFEDD1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984F-F4F1-46CF-A2B6-9655EF6D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530F-1C75-4898-A1AE-7DC1610C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D129-9DC7-484D-9EA7-BEF309B8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951C-C6A9-4707-9C98-4AE296C4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67E1-0824-4941-A49A-393096B2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151C6-1436-4251-9884-95EF6B65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4548-3328-4FA2-A530-1B0B6047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1738-5E73-4A5A-80CF-CA95A59D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724A2-1108-4DE6-8BBB-B3D87900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AEAC-1A6C-4B84-8C5D-172AB9CA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97F-80A5-4D78-A571-E61D9F46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5D3DA-2DF4-464B-9BEB-AA79520C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D17C8-7EE3-44ED-9B43-FEB159CF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4B78E-37A4-4C09-A252-A5766A89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B29B-FCAF-4C47-825B-738116C6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B8B83-F321-40E6-8002-46115093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58432-7064-4CC2-8F66-992FDFC2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DA19-C0C1-4F6F-AAA9-508159E9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21D7-079B-4C8F-9430-C998A7B4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C8059-7E1D-4BA5-BDBD-251E51A6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5AC7-7E51-47D2-B049-574C7F39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913-262E-47C1-84F3-B75A5C30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A82B1-D777-47C4-93AC-21701A7B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B461B-8137-4262-8F8C-3B0A604B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41F8B-7E0E-4DAD-ABD6-63299004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06891-F79C-4169-BDA9-39CA163F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6BB04-DDD1-4692-8979-A96DF72B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5EE42-EDF0-4718-96C1-E4D6872E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18F37-6F6F-4228-93AD-FEB7B4F2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D2BCD-283B-4884-9B12-6841373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35EAB-ECF1-4E96-A38E-8674FB7C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7181-5703-4BA0-9AF5-4C5311AA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D3B-F2F9-404E-9DF2-357BA7BA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1BE2A-7FC8-4C01-B204-605537EB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1CBC2-1401-420F-BAB9-2CE02BCC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41D21-9CF7-4C5C-AAFB-C249B4AF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24F5E-D3E1-41A6-ACA5-DF28B01A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6EC3C-30E9-479F-85B1-E52E6AD0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FB180-590A-4572-B3EB-0975E0C1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90A9F-C612-4675-9A78-A4701EC5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C5687-77B7-44F2-8A12-9FAC28D4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EDFF-6BED-41BB-BB12-629E17BB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251C9-12C4-4F2B-978B-2AD57492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131-EF33-421D-938C-D234F48C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94EBB-6541-42E5-B6F1-74441D0F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4C8AB-BF02-4DFB-9EBB-E2C5C89B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265C8-A90A-4916-8D4F-49709525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D4EDF-D273-4774-975B-B9CE06F2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1E1C4-B079-42BC-B245-1B4498AD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C7056-A839-44AC-8533-3C738BB6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2A658-BB9B-41A7-A0E3-F786887F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36BFA-D76E-4436-A2B0-DD49B852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B144-E6D0-483A-B130-E33D9FDD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905A1-D268-4E8A-8F72-AA256A13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1FE-52A4-4207-86F5-91D9A8A5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E6261-2E06-43AF-A32D-EED89C8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4A308-8C2E-4464-9069-881B120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48C1A-406B-4B30-90B6-F70A3681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6486-3CF1-4F96-96C5-17138932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88B0A-6311-4AE3-B9A2-5904D6EA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75B94-FC9A-448A-8D03-284D2863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2A566-08FF-4195-8A86-F0BF1E73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82A5C-0AE7-4E6D-B7AD-25B3B4F7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88460-5185-4353-98B4-68EE8D3C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306CE-7589-43E4-B676-8D5045D9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4CA-F31F-44B2-A9E4-72944D9B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EF24C-7225-4540-81CE-384FDF1A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9D439-84E5-4AD1-B4FE-F9B8ADC6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A05BF-9A23-477E-84BD-A3832B71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3B4F8-58EC-4AF6-83A5-389F4F0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C4A77-20C8-4F01-B1B0-AED4136A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5CA87-E933-4372-9720-17A6115D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EA5B6-BAAA-47DD-9BBD-2E09AFBD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8321F-89CF-4D24-A9E7-6E2E6C2B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554C2-9391-4BD3-A832-5D710BDB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C5665-0C28-43A9-ACF2-A8245F5F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ppt20.com/u/426748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hyperlink" Target="http://www.ppt20.com/u/426748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37C4-CD37-44D9-A0AD-71E6668A10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1BC1-4B7A-46B6-B7ED-3AFD6B848E5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252C-B3EA-49B1-82C9-3D908858FDB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E974-CC01-4A7B-8654-2FC1D3BD892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C2BA-EC22-4834-99C9-565750EEF83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905B-C349-4767-B313-48E69A5D152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B61B-9CEE-4DFC-B8FE-F49A59B8B11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BB6D-FFA3-41DD-AB4F-B778B39A613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4784-79DE-4842-AEC0-979599BD8B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6198-12F2-4C17-94CD-7578C2EBFBD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2A6A-9288-459D-A890-E906F1264DF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KSO_Shape">
            <a:hlinkClick r:id="rId3"/>
          </p:cNvPr>
          <p:cNvSpPr/>
          <p:nvPr/>
        </p:nvSpPr>
        <p:spPr>
          <a:xfrm>
            <a:off x="3857760" y="4092480"/>
            <a:ext cx="1428480" cy="1470240"/>
          </a:xfrm>
          <a:custGeom>
            <a:avLst/>
            <a:gdLst/>
            <a:ahLst/>
            <a:rect l="l" t="t" r="r" b="b"/>
            <a:pathLst>
              <a:path w="2208213" h="1703388">
                <a:moveTo>
                  <a:pt x="1762889" y="844550"/>
                </a:moveTo>
                <a:lnTo>
                  <a:pt x="2208213" y="965111"/>
                </a:lnTo>
                <a:lnTo>
                  <a:pt x="1990788" y="1371846"/>
                </a:lnTo>
                <a:lnTo>
                  <a:pt x="1929846" y="1230662"/>
                </a:lnTo>
                <a:lnTo>
                  <a:pt x="867796" y="1703388"/>
                </a:lnTo>
                <a:lnTo>
                  <a:pt x="548483" y="1444499"/>
                </a:lnTo>
                <a:lnTo>
                  <a:pt x="97445" y="1618044"/>
                </a:lnTo>
                <a:lnTo>
                  <a:pt x="0" y="1371211"/>
                </a:lnTo>
                <a:lnTo>
                  <a:pt x="594824" y="1140876"/>
                </a:lnTo>
                <a:lnTo>
                  <a:pt x="908107" y="1394689"/>
                </a:lnTo>
                <a:lnTo>
                  <a:pt x="1824148" y="987003"/>
                </a:lnTo>
                <a:lnTo>
                  <a:pt x="1762889" y="844550"/>
                </a:lnTo>
                <a:close/>
                <a:moveTo>
                  <a:pt x="958430" y="595312"/>
                </a:moveTo>
                <a:lnTo>
                  <a:pt x="972077" y="621956"/>
                </a:lnTo>
                <a:lnTo>
                  <a:pt x="992390" y="661604"/>
                </a:lnTo>
                <a:lnTo>
                  <a:pt x="1042853" y="760249"/>
                </a:lnTo>
                <a:lnTo>
                  <a:pt x="1108868" y="888076"/>
                </a:lnTo>
                <a:lnTo>
                  <a:pt x="1115533" y="879195"/>
                </a:lnTo>
                <a:lnTo>
                  <a:pt x="1123467" y="866825"/>
                </a:lnTo>
                <a:lnTo>
                  <a:pt x="1132354" y="851917"/>
                </a:lnTo>
                <a:lnTo>
                  <a:pt x="1142827" y="834154"/>
                </a:lnTo>
                <a:lnTo>
                  <a:pt x="1153618" y="814488"/>
                </a:lnTo>
                <a:lnTo>
                  <a:pt x="1165044" y="793554"/>
                </a:lnTo>
                <a:lnTo>
                  <a:pt x="1189165" y="748196"/>
                </a:lnTo>
                <a:lnTo>
                  <a:pt x="1212651" y="702204"/>
                </a:lnTo>
                <a:lnTo>
                  <a:pt x="1234233" y="659701"/>
                </a:lnTo>
                <a:lnTo>
                  <a:pt x="1252323" y="623541"/>
                </a:lnTo>
                <a:lnTo>
                  <a:pt x="1264701" y="597849"/>
                </a:lnTo>
                <a:lnTo>
                  <a:pt x="1278983" y="601973"/>
                </a:lnTo>
                <a:lnTo>
                  <a:pt x="1292313" y="605779"/>
                </a:lnTo>
                <a:lnTo>
                  <a:pt x="1305643" y="610220"/>
                </a:lnTo>
                <a:lnTo>
                  <a:pt x="1318973" y="614343"/>
                </a:lnTo>
                <a:lnTo>
                  <a:pt x="1344046" y="623541"/>
                </a:lnTo>
                <a:lnTo>
                  <a:pt x="1368167" y="633057"/>
                </a:lnTo>
                <a:lnTo>
                  <a:pt x="1391018" y="642890"/>
                </a:lnTo>
                <a:lnTo>
                  <a:pt x="1411965" y="652723"/>
                </a:lnTo>
                <a:lnTo>
                  <a:pt x="1431643" y="662556"/>
                </a:lnTo>
                <a:lnTo>
                  <a:pt x="1449733" y="671754"/>
                </a:lnTo>
                <a:lnTo>
                  <a:pt x="1465602" y="680952"/>
                </a:lnTo>
                <a:lnTo>
                  <a:pt x="1480202" y="689199"/>
                </a:lnTo>
                <a:lnTo>
                  <a:pt x="1492897" y="696812"/>
                </a:lnTo>
                <a:lnTo>
                  <a:pt x="1503053" y="703473"/>
                </a:lnTo>
                <a:lnTo>
                  <a:pt x="1517335" y="712671"/>
                </a:lnTo>
                <a:lnTo>
                  <a:pt x="1522413" y="716477"/>
                </a:lnTo>
                <a:lnTo>
                  <a:pt x="1522413" y="764373"/>
                </a:lnTo>
                <a:lnTo>
                  <a:pt x="1522413" y="948342"/>
                </a:lnTo>
                <a:lnTo>
                  <a:pt x="1522413" y="975937"/>
                </a:lnTo>
                <a:lnTo>
                  <a:pt x="929549" y="1239837"/>
                </a:lnTo>
                <a:lnTo>
                  <a:pt x="688975" y="1045084"/>
                </a:lnTo>
                <a:lnTo>
                  <a:pt x="688975" y="948342"/>
                </a:lnTo>
                <a:lnTo>
                  <a:pt x="688975" y="764373"/>
                </a:lnTo>
                <a:lnTo>
                  <a:pt x="688975" y="716477"/>
                </a:lnTo>
                <a:lnTo>
                  <a:pt x="694053" y="712671"/>
                </a:lnTo>
                <a:lnTo>
                  <a:pt x="709605" y="702521"/>
                </a:lnTo>
                <a:lnTo>
                  <a:pt x="720396" y="695860"/>
                </a:lnTo>
                <a:lnTo>
                  <a:pt x="733408" y="687931"/>
                </a:lnTo>
                <a:lnTo>
                  <a:pt x="748325" y="679366"/>
                </a:lnTo>
                <a:lnTo>
                  <a:pt x="765781" y="669851"/>
                </a:lnTo>
                <a:lnTo>
                  <a:pt x="784506" y="660018"/>
                </a:lnTo>
                <a:lnTo>
                  <a:pt x="805136" y="650185"/>
                </a:lnTo>
                <a:lnTo>
                  <a:pt x="827035" y="640035"/>
                </a:lnTo>
                <a:lnTo>
                  <a:pt x="851156" y="630202"/>
                </a:lnTo>
                <a:lnTo>
                  <a:pt x="875912" y="620370"/>
                </a:lnTo>
                <a:lnTo>
                  <a:pt x="889241" y="615612"/>
                </a:lnTo>
                <a:lnTo>
                  <a:pt x="902571" y="611488"/>
                </a:lnTo>
                <a:lnTo>
                  <a:pt x="916219" y="607048"/>
                </a:lnTo>
                <a:lnTo>
                  <a:pt x="930183" y="602607"/>
                </a:lnTo>
                <a:lnTo>
                  <a:pt x="944465" y="598801"/>
                </a:lnTo>
                <a:lnTo>
                  <a:pt x="958430" y="595312"/>
                </a:lnTo>
                <a:close/>
                <a:moveTo>
                  <a:pt x="1619885" y="414337"/>
                </a:moveTo>
                <a:lnTo>
                  <a:pt x="1631315" y="437197"/>
                </a:lnTo>
                <a:lnTo>
                  <a:pt x="1648778" y="470852"/>
                </a:lnTo>
                <a:lnTo>
                  <a:pt x="1691640" y="554354"/>
                </a:lnTo>
                <a:lnTo>
                  <a:pt x="1747520" y="662940"/>
                </a:lnTo>
                <a:lnTo>
                  <a:pt x="1752918" y="655637"/>
                </a:lnTo>
                <a:lnTo>
                  <a:pt x="1759585" y="645160"/>
                </a:lnTo>
                <a:lnTo>
                  <a:pt x="1767523" y="632142"/>
                </a:lnTo>
                <a:lnTo>
                  <a:pt x="1776095" y="617220"/>
                </a:lnTo>
                <a:lnTo>
                  <a:pt x="1795463" y="582612"/>
                </a:lnTo>
                <a:lnTo>
                  <a:pt x="1815465" y="544194"/>
                </a:lnTo>
                <a:lnTo>
                  <a:pt x="1835785" y="505142"/>
                </a:lnTo>
                <a:lnTo>
                  <a:pt x="1854200" y="468947"/>
                </a:lnTo>
                <a:lnTo>
                  <a:pt x="1869440" y="438149"/>
                </a:lnTo>
                <a:lnTo>
                  <a:pt x="1879600" y="416559"/>
                </a:lnTo>
                <a:lnTo>
                  <a:pt x="1891665" y="419734"/>
                </a:lnTo>
                <a:lnTo>
                  <a:pt x="1903413" y="423227"/>
                </a:lnTo>
                <a:lnTo>
                  <a:pt x="1925638" y="430212"/>
                </a:lnTo>
                <a:lnTo>
                  <a:pt x="1946910" y="438149"/>
                </a:lnTo>
                <a:lnTo>
                  <a:pt x="1967548" y="446404"/>
                </a:lnTo>
                <a:lnTo>
                  <a:pt x="1986915" y="454659"/>
                </a:lnTo>
                <a:lnTo>
                  <a:pt x="2005013" y="462914"/>
                </a:lnTo>
                <a:lnTo>
                  <a:pt x="2021523" y="471169"/>
                </a:lnTo>
                <a:lnTo>
                  <a:pt x="2036763" y="479424"/>
                </a:lnTo>
                <a:lnTo>
                  <a:pt x="2050415" y="487044"/>
                </a:lnTo>
                <a:lnTo>
                  <a:pt x="2062798" y="494029"/>
                </a:lnTo>
                <a:lnTo>
                  <a:pt x="2082165" y="505777"/>
                </a:lnTo>
                <a:lnTo>
                  <a:pt x="2094230" y="514349"/>
                </a:lnTo>
                <a:lnTo>
                  <a:pt x="2098675" y="516889"/>
                </a:lnTo>
                <a:lnTo>
                  <a:pt x="2098675" y="557847"/>
                </a:lnTo>
                <a:lnTo>
                  <a:pt x="2098675" y="714057"/>
                </a:lnTo>
                <a:lnTo>
                  <a:pt x="2098675" y="796925"/>
                </a:lnTo>
                <a:lnTo>
                  <a:pt x="1798638" y="715645"/>
                </a:lnTo>
                <a:lnTo>
                  <a:pt x="1660843" y="678180"/>
                </a:lnTo>
                <a:lnTo>
                  <a:pt x="1660843" y="669925"/>
                </a:lnTo>
                <a:lnTo>
                  <a:pt x="1660843" y="623252"/>
                </a:lnTo>
                <a:lnTo>
                  <a:pt x="1623060" y="595629"/>
                </a:lnTo>
                <a:lnTo>
                  <a:pt x="1618298" y="592137"/>
                </a:lnTo>
                <a:lnTo>
                  <a:pt x="1606868" y="584517"/>
                </a:lnTo>
                <a:lnTo>
                  <a:pt x="1590040" y="573722"/>
                </a:lnTo>
                <a:lnTo>
                  <a:pt x="1567180" y="559752"/>
                </a:lnTo>
                <a:lnTo>
                  <a:pt x="1553845" y="552449"/>
                </a:lnTo>
                <a:lnTo>
                  <a:pt x="1539240" y="544512"/>
                </a:lnTo>
                <a:lnTo>
                  <a:pt x="1523365" y="535939"/>
                </a:lnTo>
                <a:lnTo>
                  <a:pt x="1506538" y="527684"/>
                </a:lnTo>
                <a:lnTo>
                  <a:pt x="1488440" y="518794"/>
                </a:lnTo>
                <a:lnTo>
                  <a:pt x="1469708" y="510222"/>
                </a:lnTo>
                <a:lnTo>
                  <a:pt x="1449388" y="501649"/>
                </a:lnTo>
                <a:lnTo>
                  <a:pt x="1428750" y="493394"/>
                </a:lnTo>
                <a:lnTo>
                  <a:pt x="1444625" y="483869"/>
                </a:lnTo>
                <a:lnTo>
                  <a:pt x="1463675" y="474027"/>
                </a:lnTo>
                <a:lnTo>
                  <a:pt x="1484948" y="463549"/>
                </a:lnTo>
                <a:lnTo>
                  <a:pt x="1508125" y="452437"/>
                </a:lnTo>
                <a:lnTo>
                  <a:pt x="1520825" y="447357"/>
                </a:lnTo>
                <a:lnTo>
                  <a:pt x="1533843" y="441642"/>
                </a:lnTo>
                <a:lnTo>
                  <a:pt x="1547178" y="436562"/>
                </a:lnTo>
                <a:lnTo>
                  <a:pt x="1560830" y="431799"/>
                </a:lnTo>
                <a:lnTo>
                  <a:pt x="1575118" y="427354"/>
                </a:lnTo>
                <a:lnTo>
                  <a:pt x="1589723" y="422592"/>
                </a:lnTo>
                <a:lnTo>
                  <a:pt x="1604645" y="418147"/>
                </a:lnTo>
                <a:lnTo>
                  <a:pt x="1619885" y="414337"/>
                </a:lnTo>
                <a:close/>
                <a:moveTo>
                  <a:pt x="325863" y="414337"/>
                </a:moveTo>
                <a:lnTo>
                  <a:pt x="336663" y="437178"/>
                </a:lnTo>
                <a:lnTo>
                  <a:pt x="354134" y="470806"/>
                </a:lnTo>
                <a:lnTo>
                  <a:pt x="397017" y="554240"/>
                </a:lnTo>
                <a:lnTo>
                  <a:pt x="452923" y="662737"/>
                </a:lnTo>
                <a:lnTo>
                  <a:pt x="458323" y="655440"/>
                </a:lnTo>
                <a:lnTo>
                  <a:pt x="465629" y="644972"/>
                </a:lnTo>
                <a:lnTo>
                  <a:pt x="472935" y="631965"/>
                </a:lnTo>
                <a:lnTo>
                  <a:pt x="481829" y="617054"/>
                </a:lnTo>
                <a:lnTo>
                  <a:pt x="500888" y="582475"/>
                </a:lnTo>
                <a:lnTo>
                  <a:pt x="521217" y="544089"/>
                </a:lnTo>
                <a:lnTo>
                  <a:pt x="541229" y="505068"/>
                </a:lnTo>
                <a:lnTo>
                  <a:pt x="559653" y="468902"/>
                </a:lnTo>
                <a:lnTo>
                  <a:pt x="574900" y="438130"/>
                </a:lnTo>
                <a:lnTo>
                  <a:pt x="585700" y="416557"/>
                </a:lnTo>
                <a:lnTo>
                  <a:pt x="600947" y="420999"/>
                </a:lnTo>
                <a:lnTo>
                  <a:pt x="615877" y="425757"/>
                </a:lnTo>
                <a:lnTo>
                  <a:pt x="630489" y="430199"/>
                </a:lnTo>
                <a:lnTo>
                  <a:pt x="644783" y="434957"/>
                </a:lnTo>
                <a:lnTo>
                  <a:pt x="658442" y="440668"/>
                </a:lnTo>
                <a:lnTo>
                  <a:pt x="671783" y="445744"/>
                </a:lnTo>
                <a:lnTo>
                  <a:pt x="684489" y="451137"/>
                </a:lnTo>
                <a:lnTo>
                  <a:pt x="696877" y="456847"/>
                </a:lnTo>
                <a:lnTo>
                  <a:pt x="719431" y="467316"/>
                </a:lnTo>
                <a:lnTo>
                  <a:pt x="740078" y="477785"/>
                </a:lnTo>
                <a:lnTo>
                  <a:pt x="758184" y="487620"/>
                </a:lnTo>
                <a:lnTo>
                  <a:pt x="773113" y="496820"/>
                </a:lnTo>
                <a:lnTo>
                  <a:pt x="753419" y="505068"/>
                </a:lnTo>
                <a:lnTo>
                  <a:pt x="734042" y="513633"/>
                </a:lnTo>
                <a:lnTo>
                  <a:pt x="715936" y="521882"/>
                </a:lnTo>
                <a:lnTo>
                  <a:pt x="698783" y="530130"/>
                </a:lnTo>
                <a:lnTo>
                  <a:pt x="682901" y="538378"/>
                </a:lnTo>
                <a:lnTo>
                  <a:pt x="667654" y="546309"/>
                </a:lnTo>
                <a:lnTo>
                  <a:pt x="653677" y="554240"/>
                </a:lnTo>
                <a:lnTo>
                  <a:pt x="641289" y="561220"/>
                </a:lnTo>
                <a:lnTo>
                  <a:pt x="619689" y="574544"/>
                </a:lnTo>
                <a:lnTo>
                  <a:pt x="602853" y="585013"/>
                </a:lnTo>
                <a:lnTo>
                  <a:pt x="592371" y="592309"/>
                </a:lnTo>
                <a:lnTo>
                  <a:pt x="587924" y="595482"/>
                </a:lnTo>
                <a:lnTo>
                  <a:pt x="549806" y="623082"/>
                </a:lnTo>
                <a:lnTo>
                  <a:pt x="549806" y="669716"/>
                </a:lnTo>
                <a:lnTo>
                  <a:pt x="549806" y="717937"/>
                </a:lnTo>
                <a:lnTo>
                  <a:pt x="549806" y="901938"/>
                </a:lnTo>
                <a:lnTo>
                  <a:pt x="549806" y="1014876"/>
                </a:lnTo>
                <a:lnTo>
                  <a:pt x="546312" y="1016462"/>
                </a:lnTo>
                <a:lnTo>
                  <a:pt x="96838" y="1193800"/>
                </a:lnTo>
                <a:lnTo>
                  <a:pt x="96838" y="713813"/>
                </a:lnTo>
                <a:lnTo>
                  <a:pt x="96838" y="557730"/>
                </a:lnTo>
                <a:lnTo>
                  <a:pt x="96838" y="516806"/>
                </a:lnTo>
                <a:lnTo>
                  <a:pt x="101285" y="514268"/>
                </a:lnTo>
                <a:lnTo>
                  <a:pt x="113991" y="505385"/>
                </a:lnTo>
                <a:lnTo>
                  <a:pt x="123521" y="499675"/>
                </a:lnTo>
                <a:lnTo>
                  <a:pt x="134321" y="493013"/>
                </a:lnTo>
                <a:lnTo>
                  <a:pt x="147344" y="485716"/>
                </a:lnTo>
                <a:lnTo>
                  <a:pt x="161639" y="477468"/>
                </a:lnTo>
                <a:lnTo>
                  <a:pt x="177839" y="469220"/>
                </a:lnTo>
                <a:lnTo>
                  <a:pt x="194992" y="460971"/>
                </a:lnTo>
                <a:lnTo>
                  <a:pt x="214051" y="452406"/>
                </a:lnTo>
                <a:lnTo>
                  <a:pt x="234063" y="444157"/>
                </a:lnTo>
                <a:lnTo>
                  <a:pt x="255345" y="435909"/>
                </a:lnTo>
                <a:lnTo>
                  <a:pt x="277581" y="427978"/>
                </a:lnTo>
                <a:lnTo>
                  <a:pt x="301404" y="420999"/>
                </a:lnTo>
                <a:lnTo>
                  <a:pt x="313157" y="417509"/>
                </a:lnTo>
                <a:lnTo>
                  <a:pt x="325863" y="414337"/>
                </a:lnTo>
                <a:close/>
                <a:moveTo>
                  <a:pt x="1105540" y="106362"/>
                </a:moveTo>
                <a:lnTo>
                  <a:pt x="1113783" y="106679"/>
                </a:lnTo>
                <a:lnTo>
                  <a:pt x="1122026" y="107315"/>
                </a:lnTo>
                <a:lnTo>
                  <a:pt x="1130269" y="108268"/>
                </a:lnTo>
                <a:lnTo>
                  <a:pt x="1138512" y="109857"/>
                </a:lnTo>
                <a:lnTo>
                  <a:pt x="1146755" y="111445"/>
                </a:lnTo>
                <a:lnTo>
                  <a:pt x="1154998" y="113987"/>
                </a:lnTo>
                <a:lnTo>
                  <a:pt x="1162924" y="116528"/>
                </a:lnTo>
                <a:lnTo>
                  <a:pt x="1170850" y="119705"/>
                </a:lnTo>
                <a:lnTo>
                  <a:pt x="1178775" y="122882"/>
                </a:lnTo>
                <a:lnTo>
                  <a:pt x="1186067" y="127013"/>
                </a:lnTo>
                <a:lnTo>
                  <a:pt x="1193993" y="131143"/>
                </a:lnTo>
                <a:lnTo>
                  <a:pt x="1200968" y="135908"/>
                </a:lnTo>
                <a:lnTo>
                  <a:pt x="1208260" y="140992"/>
                </a:lnTo>
                <a:lnTo>
                  <a:pt x="1215235" y="146710"/>
                </a:lnTo>
                <a:lnTo>
                  <a:pt x="1221892" y="152429"/>
                </a:lnTo>
                <a:lnTo>
                  <a:pt x="1228550" y="158783"/>
                </a:lnTo>
                <a:lnTo>
                  <a:pt x="1234574" y="165455"/>
                </a:lnTo>
                <a:lnTo>
                  <a:pt x="1240915" y="172444"/>
                </a:lnTo>
                <a:lnTo>
                  <a:pt x="1246304" y="180069"/>
                </a:lnTo>
                <a:lnTo>
                  <a:pt x="1251694" y="188012"/>
                </a:lnTo>
                <a:lnTo>
                  <a:pt x="1256449" y="196272"/>
                </a:lnTo>
                <a:lnTo>
                  <a:pt x="1261205" y="204850"/>
                </a:lnTo>
                <a:lnTo>
                  <a:pt x="1265643" y="214064"/>
                </a:lnTo>
                <a:lnTo>
                  <a:pt x="1269448" y="223277"/>
                </a:lnTo>
                <a:lnTo>
                  <a:pt x="1272935" y="233126"/>
                </a:lnTo>
                <a:lnTo>
                  <a:pt x="1276105" y="243610"/>
                </a:lnTo>
                <a:lnTo>
                  <a:pt x="1278959" y="254094"/>
                </a:lnTo>
                <a:lnTo>
                  <a:pt x="1281178" y="265214"/>
                </a:lnTo>
                <a:lnTo>
                  <a:pt x="1282763" y="276651"/>
                </a:lnTo>
                <a:lnTo>
                  <a:pt x="1284031" y="288407"/>
                </a:lnTo>
                <a:lnTo>
                  <a:pt x="1284665" y="300479"/>
                </a:lnTo>
                <a:lnTo>
                  <a:pt x="1285300" y="313187"/>
                </a:lnTo>
                <a:lnTo>
                  <a:pt x="1285300" y="317635"/>
                </a:lnTo>
                <a:lnTo>
                  <a:pt x="1284665" y="321765"/>
                </a:lnTo>
                <a:lnTo>
                  <a:pt x="1285300" y="321765"/>
                </a:lnTo>
                <a:lnTo>
                  <a:pt x="1289421" y="322401"/>
                </a:lnTo>
                <a:lnTo>
                  <a:pt x="1293542" y="323036"/>
                </a:lnTo>
                <a:lnTo>
                  <a:pt x="1297347" y="324307"/>
                </a:lnTo>
                <a:lnTo>
                  <a:pt x="1300834" y="326213"/>
                </a:lnTo>
                <a:lnTo>
                  <a:pt x="1304322" y="328437"/>
                </a:lnTo>
                <a:lnTo>
                  <a:pt x="1307492" y="331297"/>
                </a:lnTo>
                <a:lnTo>
                  <a:pt x="1310662" y="334474"/>
                </a:lnTo>
                <a:lnTo>
                  <a:pt x="1313833" y="337651"/>
                </a:lnTo>
                <a:lnTo>
                  <a:pt x="1316369" y="341463"/>
                </a:lnTo>
                <a:lnTo>
                  <a:pt x="1318588" y="345911"/>
                </a:lnTo>
                <a:lnTo>
                  <a:pt x="1320491" y="350359"/>
                </a:lnTo>
                <a:lnTo>
                  <a:pt x="1322393" y="354807"/>
                </a:lnTo>
                <a:lnTo>
                  <a:pt x="1323661" y="359572"/>
                </a:lnTo>
                <a:lnTo>
                  <a:pt x="1324929" y="365291"/>
                </a:lnTo>
                <a:lnTo>
                  <a:pt x="1325246" y="370374"/>
                </a:lnTo>
                <a:lnTo>
                  <a:pt x="1325563" y="375775"/>
                </a:lnTo>
                <a:lnTo>
                  <a:pt x="1325246" y="381176"/>
                </a:lnTo>
                <a:lnTo>
                  <a:pt x="1323661" y="386895"/>
                </a:lnTo>
                <a:lnTo>
                  <a:pt x="1321759" y="391978"/>
                </a:lnTo>
                <a:lnTo>
                  <a:pt x="1319222" y="396744"/>
                </a:lnTo>
                <a:lnTo>
                  <a:pt x="1316369" y="401509"/>
                </a:lnTo>
                <a:lnTo>
                  <a:pt x="1312248" y="406275"/>
                </a:lnTo>
                <a:lnTo>
                  <a:pt x="1308443" y="410087"/>
                </a:lnTo>
                <a:lnTo>
                  <a:pt x="1303688" y="413900"/>
                </a:lnTo>
                <a:lnTo>
                  <a:pt x="1298932" y="417712"/>
                </a:lnTo>
                <a:lnTo>
                  <a:pt x="1294177" y="420572"/>
                </a:lnTo>
                <a:lnTo>
                  <a:pt x="1289104" y="423431"/>
                </a:lnTo>
                <a:lnTo>
                  <a:pt x="1284031" y="425337"/>
                </a:lnTo>
                <a:lnTo>
                  <a:pt x="1278959" y="427561"/>
                </a:lnTo>
                <a:lnTo>
                  <a:pt x="1274203" y="428514"/>
                </a:lnTo>
                <a:lnTo>
                  <a:pt x="1269448" y="429467"/>
                </a:lnTo>
                <a:lnTo>
                  <a:pt x="1265009" y="429785"/>
                </a:lnTo>
                <a:lnTo>
                  <a:pt x="1264692" y="429785"/>
                </a:lnTo>
                <a:lnTo>
                  <a:pt x="1258351" y="446623"/>
                </a:lnTo>
                <a:lnTo>
                  <a:pt x="1251377" y="463779"/>
                </a:lnTo>
                <a:lnTo>
                  <a:pt x="1243768" y="479665"/>
                </a:lnTo>
                <a:lnTo>
                  <a:pt x="1235525" y="495232"/>
                </a:lnTo>
                <a:lnTo>
                  <a:pt x="1228867" y="506034"/>
                </a:lnTo>
                <a:lnTo>
                  <a:pt x="1222209" y="516836"/>
                </a:lnTo>
                <a:lnTo>
                  <a:pt x="1215235" y="527003"/>
                </a:lnTo>
                <a:lnTo>
                  <a:pt x="1207626" y="536852"/>
                </a:lnTo>
                <a:lnTo>
                  <a:pt x="1200017" y="546065"/>
                </a:lnTo>
                <a:lnTo>
                  <a:pt x="1192408" y="554643"/>
                </a:lnTo>
                <a:lnTo>
                  <a:pt x="1184165" y="562586"/>
                </a:lnTo>
                <a:lnTo>
                  <a:pt x="1176239" y="569575"/>
                </a:lnTo>
                <a:lnTo>
                  <a:pt x="1167679" y="576247"/>
                </a:lnTo>
                <a:lnTo>
                  <a:pt x="1159119" y="582283"/>
                </a:lnTo>
                <a:lnTo>
                  <a:pt x="1150242" y="587367"/>
                </a:lnTo>
                <a:lnTo>
                  <a:pt x="1141365" y="591814"/>
                </a:lnTo>
                <a:lnTo>
                  <a:pt x="1132171" y="595309"/>
                </a:lnTo>
                <a:lnTo>
                  <a:pt x="1123611" y="597533"/>
                </a:lnTo>
                <a:lnTo>
                  <a:pt x="1118856" y="598804"/>
                </a:lnTo>
                <a:lnTo>
                  <a:pt x="1114734" y="599122"/>
                </a:lnTo>
                <a:lnTo>
                  <a:pt x="1110296" y="599439"/>
                </a:lnTo>
                <a:lnTo>
                  <a:pt x="1105540" y="600075"/>
                </a:lnTo>
                <a:lnTo>
                  <a:pt x="1099199" y="599439"/>
                </a:lnTo>
                <a:lnTo>
                  <a:pt x="1092859" y="598804"/>
                </a:lnTo>
                <a:lnTo>
                  <a:pt x="1087152" y="597533"/>
                </a:lnTo>
                <a:lnTo>
                  <a:pt x="1080811" y="595627"/>
                </a:lnTo>
                <a:lnTo>
                  <a:pt x="1074471" y="593721"/>
                </a:lnTo>
                <a:lnTo>
                  <a:pt x="1068130" y="590861"/>
                </a:lnTo>
                <a:lnTo>
                  <a:pt x="1062423" y="587684"/>
                </a:lnTo>
                <a:lnTo>
                  <a:pt x="1056083" y="584507"/>
                </a:lnTo>
                <a:lnTo>
                  <a:pt x="1050693" y="581012"/>
                </a:lnTo>
                <a:lnTo>
                  <a:pt x="1044986" y="577200"/>
                </a:lnTo>
                <a:lnTo>
                  <a:pt x="1039597" y="573070"/>
                </a:lnTo>
                <a:lnTo>
                  <a:pt x="1034524" y="568940"/>
                </a:lnTo>
                <a:lnTo>
                  <a:pt x="1028818" y="564174"/>
                </a:lnTo>
                <a:lnTo>
                  <a:pt x="1023745" y="559409"/>
                </a:lnTo>
                <a:lnTo>
                  <a:pt x="1018672" y="554008"/>
                </a:lnTo>
                <a:lnTo>
                  <a:pt x="1013600" y="548289"/>
                </a:lnTo>
                <a:lnTo>
                  <a:pt x="1003455" y="536534"/>
                </a:lnTo>
                <a:lnTo>
                  <a:pt x="993944" y="523826"/>
                </a:lnTo>
                <a:lnTo>
                  <a:pt x="985067" y="510482"/>
                </a:lnTo>
                <a:lnTo>
                  <a:pt x="976190" y="495868"/>
                </a:lnTo>
                <a:lnTo>
                  <a:pt x="967630" y="480300"/>
                </a:lnTo>
                <a:lnTo>
                  <a:pt x="959704" y="463779"/>
                </a:lnTo>
                <a:lnTo>
                  <a:pt x="952729" y="446623"/>
                </a:lnTo>
                <a:lnTo>
                  <a:pt x="946388" y="429150"/>
                </a:lnTo>
                <a:lnTo>
                  <a:pt x="941950" y="428197"/>
                </a:lnTo>
                <a:lnTo>
                  <a:pt x="937194" y="426926"/>
                </a:lnTo>
                <a:lnTo>
                  <a:pt x="933073" y="425020"/>
                </a:lnTo>
                <a:lnTo>
                  <a:pt x="928317" y="423113"/>
                </a:lnTo>
                <a:lnTo>
                  <a:pt x="923562" y="420572"/>
                </a:lnTo>
                <a:lnTo>
                  <a:pt x="919123" y="418030"/>
                </a:lnTo>
                <a:lnTo>
                  <a:pt x="915002" y="414853"/>
                </a:lnTo>
                <a:lnTo>
                  <a:pt x="910563" y="411358"/>
                </a:lnTo>
                <a:lnTo>
                  <a:pt x="906759" y="407863"/>
                </a:lnTo>
                <a:lnTo>
                  <a:pt x="903271" y="403733"/>
                </a:lnTo>
                <a:lnTo>
                  <a:pt x="900101" y="399603"/>
                </a:lnTo>
                <a:lnTo>
                  <a:pt x="897248" y="395155"/>
                </a:lnTo>
                <a:lnTo>
                  <a:pt x="895345" y="390707"/>
                </a:lnTo>
                <a:lnTo>
                  <a:pt x="893443" y="385624"/>
                </a:lnTo>
                <a:lnTo>
                  <a:pt x="892492" y="380859"/>
                </a:lnTo>
                <a:lnTo>
                  <a:pt x="892175" y="375775"/>
                </a:lnTo>
                <a:lnTo>
                  <a:pt x="892175" y="370692"/>
                </a:lnTo>
                <a:lnTo>
                  <a:pt x="892492" y="365926"/>
                </a:lnTo>
                <a:lnTo>
                  <a:pt x="893760" y="361161"/>
                </a:lnTo>
                <a:lnTo>
                  <a:pt x="894394" y="356395"/>
                </a:lnTo>
                <a:lnTo>
                  <a:pt x="895980" y="352265"/>
                </a:lnTo>
                <a:lnTo>
                  <a:pt x="897565" y="348135"/>
                </a:lnTo>
                <a:lnTo>
                  <a:pt x="899467" y="344323"/>
                </a:lnTo>
                <a:lnTo>
                  <a:pt x="902003" y="340828"/>
                </a:lnTo>
                <a:lnTo>
                  <a:pt x="904222" y="337333"/>
                </a:lnTo>
                <a:lnTo>
                  <a:pt x="907076" y="334156"/>
                </a:lnTo>
                <a:lnTo>
                  <a:pt x="909929" y="331297"/>
                </a:lnTo>
                <a:lnTo>
                  <a:pt x="913099" y="329073"/>
                </a:lnTo>
                <a:lnTo>
                  <a:pt x="916270" y="326531"/>
                </a:lnTo>
                <a:lnTo>
                  <a:pt x="919123" y="324943"/>
                </a:lnTo>
                <a:lnTo>
                  <a:pt x="922928" y="323672"/>
                </a:lnTo>
                <a:lnTo>
                  <a:pt x="926415" y="322719"/>
                </a:lnTo>
                <a:lnTo>
                  <a:pt x="926098" y="313187"/>
                </a:lnTo>
                <a:lnTo>
                  <a:pt x="926415" y="300479"/>
                </a:lnTo>
                <a:lnTo>
                  <a:pt x="927049" y="288407"/>
                </a:lnTo>
                <a:lnTo>
                  <a:pt x="928317" y="276651"/>
                </a:lnTo>
                <a:lnTo>
                  <a:pt x="930219" y="265214"/>
                </a:lnTo>
                <a:lnTo>
                  <a:pt x="932122" y="254094"/>
                </a:lnTo>
                <a:lnTo>
                  <a:pt x="934975" y="243610"/>
                </a:lnTo>
                <a:lnTo>
                  <a:pt x="938145" y="233126"/>
                </a:lnTo>
                <a:lnTo>
                  <a:pt x="941633" y="223277"/>
                </a:lnTo>
                <a:lnTo>
                  <a:pt x="945754" y="214064"/>
                </a:lnTo>
                <a:lnTo>
                  <a:pt x="949876" y="204850"/>
                </a:lnTo>
                <a:lnTo>
                  <a:pt x="954631" y="196272"/>
                </a:lnTo>
                <a:lnTo>
                  <a:pt x="959704" y="188012"/>
                </a:lnTo>
                <a:lnTo>
                  <a:pt x="964776" y="180069"/>
                </a:lnTo>
                <a:lnTo>
                  <a:pt x="970800" y="172444"/>
                </a:lnTo>
                <a:lnTo>
                  <a:pt x="976507" y="165455"/>
                </a:lnTo>
                <a:lnTo>
                  <a:pt x="982847" y="158783"/>
                </a:lnTo>
                <a:lnTo>
                  <a:pt x="989188" y="152429"/>
                </a:lnTo>
                <a:lnTo>
                  <a:pt x="995846" y="146710"/>
                </a:lnTo>
                <a:lnTo>
                  <a:pt x="1003138" y="140992"/>
                </a:lnTo>
                <a:lnTo>
                  <a:pt x="1010112" y="135908"/>
                </a:lnTo>
                <a:lnTo>
                  <a:pt x="1017404" y="131143"/>
                </a:lnTo>
                <a:lnTo>
                  <a:pt x="1025013" y="127013"/>
                </a:lnTo>
                <a:lnTo>
                  <a:pt x="1032622" y="122882"/>
                </a:lnTo>
                <a:lnTo>
                  <a:pt x="1040231" y="119705"/>
                </a:lnTo>
                <a:lnTo>
                  <a:pt x="1048157" y="116528"/>
                </a:lnTo>
                <a:lnTo>
                  <a:pt x="1056400" y="113987"/>
                </a:lnTo>
                <a:lnTo>
                  <a:pt x="1064326" y="111445"/>
                </a:lnTo>
                <a:lnTo>
                  <a:pt x="1072568" y="109857"/>
                </a:lnTo>
                <a:lnTo>
                  <a:pt x="1080811" y="108268"/>
                </a:lnTo>
                <a:lnTo>
                  <a:pt x="1089054" y="107315"/>
                </a:lnTo>
                <a:lnTo>
                  <a:pt x="1097297" y="106679"/>
                </a:lnTo>
                <a:lnTo>
                  <a:pt x="1105540" y="106362"/>
                </a:lnTo>
                <a:close/>
                <a:moveTo>
                  <a:pt x="1743393" y="0"/>
                </a:moveTo>
                <a:lnTo>
                  <a:pt x="1750378" y="317"/>
                </a:lnTo>
                <a:lnTo>
                  <a:pt x="1757680" y="950"/>
                </a:lnTo>
                <a:lnTo>
                  <a:pt x="1764665" y="1584"/>
                </a:lnTo>
                <a:lnTo>
                  <a:pt x="1771650" y="2851"/>
                </a:lnTo>
                <a:lnTo>
                  <a:pt x="1778318" y="4435"/>
                </a:lnTo>
                <a:lnTo>
                  <a:pt x="1785620" y="6335"/>
                </a:lnTo>
                <a:lnTo>
                  <a:pt x="1792288" y="8553"/>
                </a:lnTo>
                <a:lnTo>
                  <a:pt x="1798955" y="11404"/>
                </a:lnTo>
                <a:lnTo>
                  <a:pt x="1805623" y="14255"/>
                </a:lnTo>
                <a:lnTo>
                  <a:pt x="1812290" y="17423"/>
                </a:lnTo>
                <a:lnTo>
                  <a:pt x="1818640" y="21224"/>
                </a:lnTo>
                <a:lnTo>
                  <a:pt x="1824990" y="25342"/>
                </a:lnTo>
                <a:lnTo>
                  <a:pt x="1830705" y="29460"/>
                </a:lnTo>
                <a:lnTo>
                  <a:pt x="1836738" y="34212"/>
                </a:lnTo>
                <a:lnTo>
                  <a:pt x="1842770" y="38963"/>
                </a:lnTo>
                <a:lnTo>
                  <a:pt x="1848168" y="44349"/>
                </a:lnTo>
                <a:lnTo>
                  <a:pt x="1853248" y="50051"/>
                </a:lnTo>
                <a:lnTo>
                  <a:pt x="1858328" y="56069"/>
                </a:lnTo>
                <a:lnTo>
                  <a:pt x="1863090" y="62405"/>
                </a:lnTo>
                <a:lnTo>
                  <a:pt x="1867853" y="69057"/>
                </a:lnTo>
                <a:lnTo>
                  <a:pt x="1871663" y="76343"/>
                </a:lnTo>
                <a:lnTo>
                  <a:pt x="1875790" y="83312"/>
                </a:lnTo>
                <a:lnTo>
                  <a:pt x="1879600" y="91232"/>
                </a:lnTo>
                <a:lnTo>
                  <a:pt x="1882775" y="99151"/>
                </a:lnTo>
                <a:lnTo>
                  <a:pt x="1885950" y="107387"/>
                </a:lnTo>
                <a:lnTo>
                  <a:pt x="1888808" y="115940"/>
                </a:lnTo>
                <a:lnTo>
                  <a:pt x="1890713" y="124810"/>
                </a:lnTo>
                <a:lnTo>
                  <a:pt x="1892618" y="134313"/>
                </a:lnTo>
                <a:lnTo>
                  <a:pt x="1894205" y="144134"/>
                </a:lnTo>
                <a:lnTo>
                  <a:pt x="1895475" y="153954"/>
                </a:lnTo>
                <a:lnTo>
                  <a:pt x="1895793" y="164091"/>
                </a:lnTo>
                <a:lnTo>
                  <a:pt x="1896110" y="174861"/>
                </a:lnTo>
                <a:lnTo>
                  <a:pt x="1895793" y="182780"/>
                </a:lnTo>
                <a:lnTo>
                  <a:pt x="1896110" y="182147"/>
                </a:lnTo>
                <a:lnTo>
                  <a:pt x="1899603" y="182780"/>
                </a:lnTo>
                <a:lnTo>
                  <a:pt x="1903095" y="183414"/>
                </a:lnTo>
                <a:lnTo>
                  <a:pt x="1906270" y="184681"/>
                </a:lnTo>
                <a:lnTo>
                  <a:pt x="1909445" y="186265"/>
                </a:lnTo>
                <a:lnTo>
                  <a:pt x="1912620" y="187849"/>
                </a:lnTo>
                <a:lnTo>
                  <a:pt x="1915478" y="190066"/>
                </a:lnTo>
                <a:lnTo>
                  <a:pt x="1917700" y="192917"/>
                </a:lnTo>
                <a:lnTo>
                  <a:pt x="1920558" y="195768"/>
                </a:lnTo>
                <a:lnTo>
                  <a:pt x="1922463" y="199253"/>
                </a:lnTo>
                <a:lnTo>
                  <a:pt x="1924368" y="202737"/>
                </a:lnTo>
                <a:lnTo>
                  <a:pt x="1926590" y="206222"/>
                </a:lnTo>
                <a:lnTo>
                  <a:pt x="1927543" y="210023"/>
                </a:lnTo>
                <a:lnTo>
                  <a:pt x="1928813" y="214458"/>
                </a:lnTo>
                <a:lnTo>
                  <a:pt x="1929765" y="218893"/>
                </a:lnTo>
                <a:lnTo>
                  <a:pt x="1930400" y="223645"/>
                </a:lnTo>
                <a:lnTo>
                  <a:pt x="1930400" y="228080"/>
                </a:lnTo>
                <a:lnTo>
                  <a:pt x="1930083" y="232831"/>
                </a:lnTo>
                <a:lnTo>
                  <a:pt x="1928813" y="237266"/>
                </a:lnTo>
                <a:lnTo>
                  <a:pt x="1927225" y="241701"/>
                </a:lnTo>
                <a:lnTo>
                  <a:pt x="1925320" y="245819"/>
                </a:lnTo>
                <a:lnTo>
                  <a:pt x="1922463" y="249937"/>
                </a:lnTo>
                <a:lnTo>
                  <a:pt x="1919288" y="253739"/>
                </a:lnTo>
                <a:lnTo>
                  <a:pt x="1915795" y="257223"/>
                </a:lnTo>
                <a:lnTo>
                  <a:pt x="1911985" y="260391"/>
                </a:lnTo>
                <a:lnTo>
                  <a:pt x="1907858" y="263242"/>
                </a:lnTo>
                <a:lnTo>
                  <a:pt x="1903730" y="265776"/>
                </a:lnTo>
                <a:lnTo>
                  <a:pt x="1899285" y="268310"/>
                </a:lnTo>
                <a:lnTo>
                  <a:pt x="1895475" y="270211"/>
                </a:lnTo>
                <a:lnTo>
                  <a:pt x="1891030" y="271795"/>
                </a:lnTo>
                <a:lnTo>
                  <a:pt x="1886585" y="272745"/>
                </a:lnTo>
                <a:lnTo>
                  <a:pt x="1882775" y="273379"/>
                </a:lnTo>
                <a:lnTo>
                  <a:pt x="1879283" y="273696"/>
                </a:lnTo>
                <a:lnTo>
                  <a:pt x="1878965" y="273696"/>
                </a:lnTo>
                <a:lnTo>
                  <a:pt x="1873250" y="288267"/>
                </a:lnTo>
                <a:lnTo>
                  <a:pt x="1867535" y="302522"/>
                </a:lnTo>
                <a:lnTo>
                  <a:pt x="1860868" y="316144"/>
                </a:lnTo>
                <a:lnTo>
                  <a:pt x="1853565" y="329449"/>
                </a:lnTo>
                <a:lnTo>
                  <a:pt x="1846263" y="342120"/>
                </a:lnTo>
                <a:lnTo>
                  <a:pt x="1838325" y="353840"/>
                </a:lnTo>
                <a:lnTo>
                  <a:pt x="1829753" y="364928"/>
                </a:lnTo>
                <a:lnTo>
                  <a:pt x="1820863" y="375065"/>
                </a:lnTo>
                <a:lnTo>
                  <a:pt x="1811973" y="384568"/>
                </a:lnTo>
                <a:lnTo>
                  <a:pt x="1802448" y="392804"/>
                </a:lnTo>
                <a:lnTo>
                  <a:pt x="1797685" y="396605"/>
                </a:lnTo>
                <a:lnTo>
                  <a:pt x="1792923" y="399773"/>
                </a:lnTo>
                <a:lnTo>
                  <a:pt x="1788160" y="403258"/>
                </a:lnTo>
                <a:lnTo>
                  <a:pt x="1783715" y="406109"/>
                </a:lnTo>
                <a:lnTo>
                  <a:pt x="1778318" y="408960"/>
                </a:lnTo>
                <a:lnTo>
                  <a:pt x="1773238" y="410860"/>
                </a:lnTo>
                <a:lnTo>
                  <a:pt x="1768475" y="412761"/>
                </a:lnTo>
                <a:lnTo>
                  <a:pt x="1763395" y="414345"/>
                </a:lnTo>
                <a:lnTo>
                  <a:pt x="1758315" y="415929"/>
                </a:lnTo>
                <a:lnTo>
                  <a:pt x="1753553" y="416879"/>
                </a:lnTo>
                <a:lnTo>
                  <a:pt x="1748473" y="417196"/>
                </a:lnTo>
                <a:lnTo>
                  <a:pt x="1743393" y="417513"/>
                </a:lnTo>
                <a:lnTo>
                  <a:pt x="1738630" y="417196"/>
                </a:lnTo>
                <a:lnTo>
                  <a:pt x="1733550" y="416879"/>
                </a:lnTo>
                <a:lnTo>
                  <a:pt x="1728470" y="415929"/>
                </a:lnTo>
                <a:lnTo>
                  <a:pt x="1723390" y="414345"/>
                </a:lnTo>
                <a:lnTo>
                  <a:pt x="1718628" y="412761"/>
                </a:lnTo>
                <a:lnTo>
                  <a:pt x="1713548" y="410860"/>
                </a:lnTo>
                <a:lnTo>
                  <a:pt x="1708468" y="408643"/>
                </a:lnTo>
                <a:lnTo>
                  <a:pt x="1703705" y="406109"/>
                </a:lnTo>
                <a:lnTo>
                  <a:pt x="1698625" y="402941"/>
                </a:lnTo>
                <a:lnTo>
                  <a:pt x="1693863" y="399773"/>
                </a:lnTo>
                <a:lnTo>
                  <a:pt x="1689100" y="396289"/>
                </a:lnTo>
                <a:lnTo>
                  <a:pt x="1684338" y="392804"/>
                </a:lnTo>
                <a:lnTo>
                  <a:pt x="1679575" y="388369"/>
                </a:lnTo>
                <a:lnTo>
                  <a:pt x="1674813" y="384568"/>
                </a:lnTo>
                <a:lnTo>
                  <a:pt x="1665923" y="375065"/>
                </a:lnTo>
                <a:lnTo>
                  <a:pt x="1657350" y="364928"/>
                </a:lnTo>
                <a:lnTo>
                  <a:pt x="1649095" y="353524"/>
                </a:lnTo>
                <a:lnTo>
                  <a:pt x="1640840" y="341803"/>
                </a:lnTo>
                <a:lnTo>
                  <a:pt x="1633220" y="329132"/>
                </a:lnTo>
                <a:lnTo>
                  <a:pt x="1626235" y="315827"/>
                </a:lnTo>
                <a:lnTo>
                  <a:pt x="1619568" y="302206"/>
                </a:lnTo>
                <a:lnTo>
                  <a:pt x="1613535" y="287951"/>
                </a:lnTo>
                <a:lnTo>
                  <a:pt x="1608138" y="273062"/>
                </a:lnTo>
                <a:lnTo>
                  <a:pt x="1604645" y="272112"/>
                </a:lnTo>
                <a:lnTo>
                  <a:pt x="1600518" y="271161"/>
                </a:lnTo>
                <a:lnTo>
                  <a:pt x="1596708" y="269894"/>
                </a:lnTo>
                <a:lnTo>
                  <a:pt x="1592580" y="267994"/>
                </a:lnTo>
                <a:lnTo>
                  <a:pt x="1589088" y="265776"/>
                </a:lnTo>
                <a:lnTo>
                  <a:pt x="1585278" y="263559"/>
                </a:lnTo>
                <a:lnTo>
                  <a:pt x="1581150" y="260708"/>
                </a:lnTo>
                <a:lnTo>
                  <a:pt x="1577658" y="258174"/>
                </a:lnTo>
                <a:lnTo>
                  <a:pt x="1574483" y="255006"/>
                </a:lnTo>
                <a:lnTo>
                  <a:pt x="1571308" y="251838"/>
                </a:lnTo>
                <a:lnTo>
                  <a:pt x="1568768" y="248353"/>
                </a:lnTo>
                <a:lnTo>
                  <a:pt x="1566228" y="244235"/>
                </a:lnTo>
                <a:lnTo>
                  <a:pt x="1564640" y="240434"/>
                </a:lnTo>
                <a:lnTo>
                  <a:pt x="1563053" y="236633"/>
                </a:lnTo>
                <a:lnTo>
                  <a:pt x="1562418" y="232515"/>
                </a:lnTo>
                <a:lnTo>
                  <a:pt x="1562100" y="228080"/>
                </a:lnTo>
                <a:lnTo>
                  <a:pt x="1562100" y="223962"/>
                </a:lnTo>
                <a:lnTo>
                  <a:pt x="1562418" y="219527"/>
                </a:lnTo>
                <a:lnTo>
                  <a:pt x="1563053" y="215725"/>
                </a:lnTo>
                <a:lnTo>
                  <a:pt x="1564323" y="211607"/>
                </a:lnTo>
                <a:lnTo>
                  <a:pt x="1565593" y="208123"/>
                </a:lnTo>
                <a:lnTo>
                  <a:pt x="1567180" y="204638"/>
                </a:lnTo>
                <a:lnTo>
                  <a:pt x="1568768" y="201470"/>
                </a:lnTo>
                <a:lnTo>
                  <a:pt x="1570673" y="198303"/>
                </a:lnTo>
                <a:lnTo>
                  <a:pt x="1572578" y="195135"/>
                </a:lnTo>
                <a:lnTo>
                  <a:pt x="1574483" y="192917"/>
                </a:lnTo>
                <a:lnTo>
                  <a:pt x="1577340" y="190383"/>
                </a:lnTo>
                <a:lnTo>
                  <a:pt x="1579563" y="188166"/>
                </a:lnTo>
                <a:lnTo>
                  <a:pt x="1582420" y="186582"/>
                </a:lnTo>
                <a:lnTo>
                  <a:pt x="1585278" y="184998"/>
                </a:lnTo>
                <a:lnTo>
                  <a:pt x="1588453" y="183731"/>
                </a:lnTo>
                <a:lnTo>
                  <a:pt x="1590993" y="183097"/>
                </a:lnTo>
                <a:lnTo>
                  <a:pt x="1590993" y="174861"/>
                </a:lnTo>
                <a:lnTo>
                  <a:pt x="1590993" y="164091"/>
                </a:lnTo>
                <a:lnTo>
                  <a:pt x="1591945" y="153954"/>
                </a:lnTo>
                <a:lnTo>
                  <a:pt x="1593215" y="144134"/>
                </a:lnTo>
                <a:lnTo>
                  <a:pt x="1594168" y="134313"/>
                </a:lnTo>
                <a:lnTo>
                  <a:pt x="1596073" y="124810"/>
                </a:lnTo>
                <a:lnTo>
                  <a:pt x="1598613" y="115940"/>
                </a:lnTo>
                <a:lnTo>
                  <a:pt x="1601470" y="107387"/>
                </a:lnTo>
                <a:lnTo>
                  <a:pt x="1604010" y="99151"/>
                </a:lnTo>
                <a:lnTo>
                  <a:pt x="1607503" y="91232"/>
                </a:lnTo>
                <a:lnTo>
                  <a:pt x="1611313" y="83312"/>
                </a:lnTo>
                <a:lnTo>
                  <a:pt x="1615123" y="76343"/>
                </a:lnTo>
                <a:lnTo>
                  <a:pt x="1619568" y="69057"/>
                </a:lnTo>
                <a:lnTo>
                  <a:pt x="1624013" y="62405"/>
                </a:lnTo>
                <a:lnTo>
                  <a:pt x="1628775" y="56069"/>
                </a:lnTo>
                <a:lnTo>
                  <a:pt x="1633855" y="50051"/>
                </a:lnTo>
                <a:lnTo>
                  <a:pt x="1639253" y="44349"/>
                </a:lnTo>
                <a:lnTo>
                  <a:pt x="1644650" y="38963"/>
                </a:lnTo>
                <a:lnTo>
                  <a:pt x="1650683" y="34212"/>
                </a:lnTo>
                <a:lnTo>
                  <a:pt x="1656398" y="29460"/>
                </a:lnTo>
                <a:lnTo>
                  <a:pt x="1662430" y="25342"/>
                </a:lnTo>
                <a:lnTo>
                  <a:pt x="1668780" y="21224"/>
                </a:lnTo>
                <a:lnTo>
                  <a:pt x="1674813" y="17423"/>
                </a:lnTo>
                <a:lnTo>
                  <a:pt x="1681480" y="14255"/>
                </a:lnTo>
                <a:lnTo>
                  <a:pt x="1687830" y="11404"/>
                </a:lnTo>
                <a:lnTo>
                  <a:pt x="1695133" y="8553"/>
                </a:lnTo>
                <a:lnTo>
                  <a:pt x="1701800" y="6335"/>
                </a:lnTo>
                <a:lnTo>
                  <a:pt x="1708468" y="4435"/>
                </a:lnTo>
                <a:lnTo>
                  <a:pt x="1715453" y="2851"/>
                </a:lnTo>
                <a:lnTo>
                  <a:pt x="1722438" y="1584"/>
                </a:lnTo>
                <a:lnTo>
                  <a:pt x="1729740" y="950"/>
                </a:lnTo>
                <a:lnTo>
                  <a:pt x="1736408" y="317"/>
                </a:lnTo>
                <a:lnTo>
                  <a:pt x="1743393" y="0"/>
                </a:lnTo>
                <a:close/>
                <a:moveTo>
                  <a:pt x="451006" y="0"/>
                </a:moveTo>
                <a:lnTo>
                  <a:pt x="458315" y="317"/>
                </a:lnTo>
                <a:lnTo>
                  <a:pt x="465306" y="950"/>
                </a:lnTo>
                <a:lnTo>
                  <a:pt x="472297" y="1584"/>
                </a:lnTo>
                <a:lnTo>
                  <a:pt x="479606" y="2851"/>
                </a:lnTo>
                <a:lnTo>
                  <a:pt x="486279" y="4435"/>
                </a:lnTo>
                <a:lnTo>
                  <a:pt x="493270" y="6335"/>
                </a:lnTo>
                <a:lnTo>
                  <a:pt x="499944" y="8553"/>
                </a:lnTo>
                <a:lnTo>
                  <a:pt x="506617" y="11404"/>
                </a:lnTo>
                <a:lnTo>
                  <a:pt x="513290" y="14255"/>
                </a:lnTo>
                <a:lnTo>
                  <a:pt x="519963" y="17423"/>
                </a:lnTo>
                <a:lnTo>
                  <a:pt x="526319" y="21224"/>
                </a:lnTo>
                <a:lnTo>
                  <a:pt x="532674" y="25342"/>
                </a:lnTo>
                <a:lnTo>
                  <a:pt x="538712" y="29460"/>
                </a:lnTo>
                <a:lnTo>
                  <a:pt x="544432" y="34212"/>
                </a:lnTo>
                <a:lnTo>
                  <a:pt x="550470" y="38963"/>
                </a:lnTo>
                <a:lnTo>
                  <a:pt x="555872" y="44349"/>
                </a:lnTo>
                <a:lnTo>
                  <a:pt x="560956" y="50051"/>
                </a:lnTo>
                <a:lnTo>
                  <a:pt x="566041" y="56069"/>
                </a:lnTo>
                <a:lnTo>
                  <a:pt x="570807" y="62405"/>
                </a:lnTo>
                <a:lnTo>
                  <a:pt x="575574" y="69057"/>
                </a:lnTo>
                <a:lnTo>
                  <a:pt x="580023" y="76343"/>
                </a:lnTo>
                <a:lnTo>
                  <a:pt x="583836" y="83312"/>
                </a:lnTo>
                <a:lnTo>
                  <a:pt x="587331" y="91232"/>
                </a:lnTo>
                <a:lnTo>
                  <a:pt x="591145" y="99151"/>
                </a:lnTo>
                <a:lnTo>
                  <a:pt x="593687" y="107387"/>
                </a:lnTo>
                <a:lnTo>
                  <a:pt x="596547" y="115940"/>
                </a:lnTo>
                <a:lnTo>
                  <a:pt x="598771" y="124810"/>
                </a:lnTo>
                <a:lnTo>
                  <a:pt x="600996" y="134313"/>
                </a:lnTo>
                <a:lnTo>
                  <a:pt x="601949" y="144134"/>
                </a:lnTo>
                <a:lnTo>
                  <a:pt x="603220" y="153954"/>
                </a:lnTo>
                <a:lnTo>
                  <a:pt x="603856" y="164091"/>
                </a:lnTo>
                <a:lnTo>
                  <a:pt x="603856" y="174861"/>
                </a:lnTo>
                <a:lnTo>
                  <a:pt x="603856" y="182147"/>
                </a:lnTo>
                <a:lnTo>
                  <a:pt x="607669" y="182780"/>
                </a:lnTo>
                <a:lnTo>
                  <a:pt x="611165" y="183414"/>
                </a:lnTo>
                <a:lnTo>
                  <a:pt x="614342" y="184681"/>
                </a:lnTo>
                <a:lnTo>
                  <a:pt x="617520" y="186265"/>
                </a:lnTo>
                <a:lnTo>
                  <a:pt x="620698" y="187849"/>
                </a:lnTo>
                <a:lnTo>
                  <a:pt x="623240" y="190066"/>
                </a:lnTo>
                <a:lnTo>
                  <a:pt x="626100" y="192917"/>
                </a:lnTo>
                <a:lnTo>
                  <a:pt x="628324" y="195768"/>
                </a:lnTo>
                <a:lnTo>
                  <a:pt x="630549" y="199253"/>
                </a:lnTo>
                <a:lnTo>
                  <a:pt x="632455" y="202737"/>
                </a:lnTo>
                <a:lnTo>
                  <a:pt x="634362" y="206222"/>
                </a:lnTo>
                <a:lnTo>
                  <a:pt x="635633" y="210023"/>
                </a:lnTo>
                <a:lnTo>
                  <a:pt x="636586" y="214458"/>
                </a:lnTo>
                <a:lnTo>
                  <a:pt x="637540" y="218893"/>
                </a:lnTo>
                <a:lnTo>
                  <a:pt x="638175" y="223645"/>
                </a:lnTo>
                <a:lnTo>
                  <a:pt x="638175" y="228080"/>
                </a:lnTo>
                <a:lnTo>
                  <a:pt x="637857" y="232831"/>
                </a:lnTo>
                <a:lnTo>
                  <a:pt x="637222" y="237266"/>
                </a:lnTo>
                <a:lnTo>
                  <a:pt x="634997" y="241701"/>
                </a:lnTo>
                <a:lnTo>
                  <a:pt x="633091" y="245819"/>
                </a:lnTo>
                <a:lnTo>
                  <a:pt x="630549" y="249937"/>
                </a:lnTo>
                <a:lnTo>
                  <a:pt x="627371" y="253739"/>
                </a:lnTo>
                <a:lnTo>
                  <a:pt x="623558" y="257223"/>
                </a:lnTo>
                <a:lnTo>
                  <a:pt x="619744" y="260391"/>
                </a:lnTo>
                <a:lnTo>
                  <a:pt x="615931" y="263242"/>
                </a:lnTo>
                <a:lnTo>
                  <a:pt x="611482" y="265776"/>
                </a:lnTo>
                <a:lnTo>
                  <a:pt x="607669" y="268310"/>
                </a:lnTo>
                <a:lnTo>
                  <a:pt x="603220" y="270211"/>
                </a:lnTo>
                <a:lnTo>
                  <a:pt x="598771" y="271795"/>
                </a:lnTo>
                <a:lnTo>
                  <a:pt x="594958" y="272745"/>
                </a:lnTo>
                <a:lnTo>
                  <a:pt x="591145" y="273379"/>
                </a:lnTo>
                <a:lnTo>
                  <a:pt x="587014" y="273696"/>
                </a:lnTo>
                <a:lnTo>
                  <a:pt x="586696" y="273696"/>
                </a:lnTo>
                <a:lnTo>
                  <a:pt x="581612" y="288267"/>
                </a:lnTo>
                <a:lnTo>
                  <a:pt x="575256" y="302522"/>
                </a:lnTo>
                <a:lnTo>
                  <a:pt x="568900" y="316144"/>
                </a:lnTo>
                <a:lnTo>
                  <a:pt x="561910" y="329449"/>
                </a:lnTo>
                <a:lnTo>
                  <a:pt x="553965" y="342120"/>
                </a:lnTo>
                <a:lnTo>
                  <a:pt x="546021" y="353840"/>
                </a:lnTo>
                <a:lnTo>
                  <a:pt x="537759" y="364928"/>
                </a:lnTo>
                <a:lnTo>
                  <a:pt x="529179" y="375065"/>
                </a:lnTo>
                <a:lnTo>
                  <a:pt x="519646" y="384568"/>
                </a:lnTo>
                <a:lnTo>
                  <a:pt x="510748" y="392804"/>
                </a:lnTo>
                <a:lnTo>
                  <a:pt x="505981" y="396605"/>
                </a:lnTo>
                <a:lnTo>
                  <a:pt x="501215" y="399773"/>
                </a:lnTo>
                <a:lnTo>
                  <a:pt x="496130" y="403258"/>
                </a:lnTo>
                <a:lnTo>
                  <a:pt x="491364" y="406109"/>
                </a:lnTo>
                <a:lnTo>
                  <a:pt x="486279" y="408960"/>
                </a:lnTo>
                <a:lnTo>
                  <a:pt x="481513" y="410860"/>
                </a:lnTo>
                <a:lnTo>
                  <a:pt x="476428" y="412761"/>
                </a:lnTo>
                <a:lnTo>
                  <a:pt x="471344" y="414345"/>
                </a:lnTo>
                <a:lnTo>
                  <a:pt x="466577" y="415929"/>
                </a:lnTo>
                <a:lnTo>
                  <a:pt x="461493" y="416879"/>
                </a:lnTo>
                <a:lnTo>
                  <a:pt x="456409" y="417196"/>
                </a:lnTo>
                <a:lnTo>
                  <a:pt x="451006" y="417513"/>
                </a:lnTo>
                <a:lnTo>
                  <a:pt x="446558" y="417196"/>
                </a:lnTo>
                <a:lnTo>
                  <a:pt x="441155" y="416879"/>
                </a:lnTo>
                <a:lnTo>
                  <a:pt x="436071" y="415929"/>
                </a:lnTo>
                <a:lnTo>
                  <a:pt x="430987" y="414345"/>
                </a:lnTo>
                <a:lnTo>
                  <a:pt x="426220" y="412761"/>
                </a:lnTo>
                <a:lnTo>
                  <a:pt x="421136" y="410860"/>
                </a:lnTo>
                <a:lnTo>
                  <a:pt x="416369" y="408643"/>
                </a:lnTo>
                <a:lnTo>
                  <a:pt x="411285" y="406109"/>
                </a:lnTo>
                <a:lnTo>
                  <a:pt x="406518" y="402941"/>
                </a:lnTo>
                <a:lnTo>
                  <a:pt x="401434" y="399773"/>
                </a:lnTo>
                <a:lnTo>
                  <a:pt x="396667" y="396289"/>
                </a:lnTo>
                <a:lnTo>
                  <a:pt x="392218" y="392804"/>
                </a:lnTo>
                <a:lnTo>
                  <a:pt x="382685" y="384568"/>
                </a:lnTo>
                <a:lnTo>
                  <a:pt x="373470" y="375065"/>
                </a:lnTo>
                <a:lnTo>
                  <a:pt x="364890" y="364928"/>
                </a:lnTo>
                <a:lnTo>
                  <a:pt x="356628" y="353524"/>
                </a:lnTo>
                <a:lnTo>
                  <a:pt x="348365" y="341803"/>
                </a:lnTo>
                <a:lnTo>
                  <a:pt x="340739" y="329132"/>
                </a:lnTo>
                <a:lnTo>
                  <a:pt x="333748" y="315827"/>
                </a:lnTo>
                <a:lnTo>
                  <a:pt x="327075" y="302206"/>
                </a:lnTo>
                <a:lnTo>
                  <a:pt x="321037" y="287951"/>
                </a:lnTo>
                <a:lnTo>
                  <a:pt x="315952" y="273062"/>
                </a:lnTo>
                <a:lnTo>
                  <a:pt x="312139" y="272112"/>
                </a:lnTo>
                <a:lnTo>
                  <a:pt x="308644" y="271161"/>
                </a:lnTo>
                <a:lnTo>
                  <a:pt x="304513" y="269894"/>
                </a:lnTo>
                <a:lnTo>
                  <a:pt x="300699" y="267994"/>
                </a:lnTo>
                <a:lnTo>
                  <a:pt x="296568" y="265776"/>
                </a:lnTo>
                <a:lnTo>
                  <a:pt x="292755" y="263559"/>
                </a:lnTo>
                <a:lnTo>
                  <a:pt x="289259" y="260708"/>
                </a:lnTo>
                <a:lnTo>
                  <a:pt x="285764" y="258174"/>
                </a:lnTo>
                <a:lnTo>
                  <a:pt x="282586" y="255006"/>
                </a:lnTo>
                <a:lnTo>
                  <a:pt x="279408" y="251838"/>
                </a:lnTo>
                <a:lnTo>
                  <a:pt x="276548" y="248353"/>
                </a:lnTo>
                <a:lnTo>
                  <a:pt x="274324" y="244235"/>
                </a:lnTo>
                <a:lnTo>
                  <a:pt x="272417" y="240434"/>
                </a:lnTo>
                <a:lnTo>
                  <a:pt x="271146" y="236633"/>
                </a:lnTo>
                <a:lnTo>
                  <a:pt x="270193" y="232515"/>
                </a:lnTo>
                <a:lnTo>
                  <a:pt x="269875" y="228080"/>
                </a:lnTo>
                <a:lnTo>
                  <a:pt x="269875" y="223962"/>
                </a:lnTo>
                <a:lnTo>
                  <a:pt x="270193" y="219527"/>
                </a:lnTo>
                <a:lnTo>
                  <a:pt x="271146" y="215725"/>
                </a:lnTo>
                <a:lnTo>
                  <a:pt x="271782" y="211607"/>
                </a:lnTo>
                <a:lnTo>
                  <a:pt x="273371" y="208123"/>
                </a:lnTo>
                <a:lnTo>
                  <a:pt x="274642" y="204638"/>
                </a:lnTo>
                <a:lnTo>
                  <a:pt x="276231" y="201470"/>
                </a:lnTo>
                <a:lnTo>
                  <a:pt x="278137" y="198303"/>
                </a:lnTo>
                <a:lnTo>
                  <a:pt x="280044" y="195135"/>
                </a:lnTo>
                <a:lnTo>
                  <a:pt x="282586" y="192917"/>
                </a:lnTo>
                <a:lnTo>
                  <a:pt x="284811" y="190383"/>
                </a:lnTo>
                <a:lnTo>
                  <a:pt x="287671" y="188166"/>
                </a:lnTo>
                <a:lnTo>
                  <a:pt x="289895" y="186582"/>
                </a:lnTo>
                <a:lnTo>
                  <a:pt x="293073" y="184998"/>
                </a:lnTo>
                <a:lnTo>
                  <a:pt x="295933" y="183731"/>
                </a:lnTo>
                <a:lnTo>
                  <a:pt x="299110" y="183097"/>
                </a:lnTo>
                <a:lnTo>
                  <a:pt x="298793" y="174861"/>
                </a:lnTo>
                <a:lnTo>
                  <a:pt x="299110" y="164091"/>
                </a:lnTo>
                <a:lnTo>
                  <a:pt x="299428" y="153954"/>
                </a:lnTo>
                <a:lnTo>
                  <a:pt x="300699" y="144134"/>
                </a:lnTo>
                <a:lnTo>
                  <a:pt x="302288" y="134313"/>
                </a:lnTo>
                <a:lnTo>
                  <a:pt x="304195" y="124810"/>
                </a:lnTo>
                <a:lnTo>
                  <a:pt x="306101" y="115940"/>
                </a:lnTo>
                <a:lnTo>
                  <a:pt x="308961" y="107387"/>
                </a:lnTo>
                <a:lnTo>
                  <a:pt x="312139" y="99151"/>
                </a:lnTo>
                <a:lnTo>
                  <a:pt x="315317" y="91232"/>
                </a:lnTo>
                <a:lnTo>
                  <a:pt x="319130" y="83312"/>
                </a:lnTo>
                <a:lnTo>
                  <a:pt x="323261" y="76343"/>
                </a:lnTo>
                <a:lnTo>
                  <a:pt x="327075" y="69057"/>
                </a:lnTo>
                <a:lnTo>
                  <a:pt x="331841" y="62405"/>
                </a:lnTo>
                <a:lnTo>
                  <a:pt x="336608" y="56069"/>
                </a:lnTo>
                <a:lnTo>
                  <a:pt x="341692" y="50051"/>
                </a:lnTo>
                <a:lnTo>
                  <a:pt x="346777" y="44349"/>
                </a:lnTo>
                <a:lnTo>
                  <a:pt x="352179" y="38963"/>
                </a:lnTo>
                <a:lnTo>
                  <a:pt x="358216" y="34212"/>
                </a:lnTo>
                <a:lnTo>
                  <a:pt x="363936" y="29460"/>
                </a:lnTo>
                <a:lnTo>
                  <a:pt x="369974" y="25342"/>
                </a:lnTo>
                <a:lnTo>
                  <a:pt x="376329" y="21224"/>
                </a:lnTo>
                <a:lnTo>
                  <a:pt x="382685" y="17423"/>
                </a:lnTo>
                <a:lnTo>
                  <a:pt x="389358" y="14255"/>
                </a:lnTo>
                <a:lnTo>
                  <a:pt x="396031" y="11404"/>
                </a:lnTo>
                <a:lnTo>
                  <a:pt x="402705" y="8553"/>
                </a:lnTo>
                <a:lnTo>
                  <a:pt x="409378" y="6335"/>
                </a:lnTo>
                <a:lnTo>
                  <a:pt x="416369" y="4435"/>
                </a:lnTo>
                <a:lnTo>
                  <a:pt x="423042" y="2851"/>
                </a:lnTo>
                <a:lnTo>
                  <a:pt x="430351" y="1584"/>
                </a:lnTo>
                <a:lnTo>
                  <a:pt x="437342" y="950"/>
                </a:lnTo>
                <a:lnTo>
                  <a:pt x="444333" y="317"/>
                </a:lnTo>
                <a:lnTo>
                  <a:pt x="45100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KSO_Shape"/>
          <p:cNvSpPr/>
          <p:nvPr/>
        </p:nvSpPr>
        <p:spPr>
          <a:xfrm>
            <a:off x="1343160" y="2938320"/>
            <a:ext cx="474480" cy="1268640"/>
          </a:xfrm>
          <a:custGeom>
            <a:avLst/>
            <a:gdLst/>
            <a:ahLst/>
            <a:rect l="l" t="t" r="r" b="b"/>
            <a:pathLst>
              <a:path w="1071563" h="2144713">
                <a:moveTo>
                  <a:pt x="337303" y="111125"/>
                </a:moveTo>
                <a:lnTo>
                  <a:pt x="345236" y="111125"/>
                </a:lnTo>
                <a:lnTo>
                  <a:pt x="352851" y="112395"/>
                </a:lnTo>
                <a:lnTo>
                  <a:pt x="360784" y="113665"/>
                </a:lnTo>
                <a:lnTo>
                  <a:pt x="368082" y="116205"/>
                </a:lnTo>
                <a:lnTo>
                  <a:pt x="375698" y="119380"/>
                </a:lnTo>
                <a:lnTo>
                  <a:pt x="382678" y="123190"/>
                </a:lnTo>
                <a:lnTo>
                  <a:pt x="385852" y="125730"/>
                </a:lnTo>
                <a:lnTo>
                  <a:pt x="389342" y="128270"/>
                </a:lnTo>
                <a:lnTo>
                  <a:pt x="392515" y="131128"/>
                </a:lnTo>
                <a:lnTo>
                  <a:pt x="395688" y="133985"/>
                </a:lnTo>
                <a:lnTo>
                  <a:pt x="398544" y="137160"/>
                </a:lnTo>
                <a:lnTo>
                  <a:pt x="401400" y="140335"/>
                </a:lnTo>
                <a:lnTo>
                  <a:pt x="404256" y="143828"/>
                </a:lnTo>
                <a:lnTo>
                  <a:pt x="406794" y="147638"/>
                </a:lnTo>
                <a:lnTo>
                  <a:pt x="409650" y="151448"/>
                </a:lnTo>
                <a:lnTo>
                  <a:pt x="411554" y="155893"/>
                </a:lnTo>
                <a:lnTo>
                  <a:pt x="413775" y="160020"/>
                </a:lnTo>
                <a:lnTo>
                  <a:pt x="415996" y="164783"/>
                </a:lnTo>
                <a:lnTo>
                  <a:pt x="417583" y="169545"/>
                </a:lnTo>
                <a:lnTo>
                  <a:pt x="419487" y="174625"/>
                </a:lnTo>
                <a:lnTo>
                  <a:pt x="420756" y="180023"/>
                </a:lnTo>
                <a:lnTo>
                  <a:pt x="422342" y="185103"/>
                </a:lnTo>
                <a:lnTo>
                  <a:pt x="423294" y="190818"/>
                </a:lnTo>
                <a:lnTo>
                  <a:pt x="424564" y="196850"/>
                </a:lnTo>
                <a:lnTo>
                  <a:pt x="425198" y="202883"/>
                </a:lnTo>
                <a:lnTo>
                  <a:pt x="425516" y="209233"/>
                </a:lnTo>
                <a:lnTo>
                  <a:pt x="466132" y="824548"/>
                </a:lnTo>
                <a:lnTo>
                  <a:pt x="465814" y="825818"/>
                </a:lnTo>
                <a:lnTo>
                  <a:pt x="466766" y="827405"/>
                </a:lnTo>
                <a:lnTo>
                  <a:pt x="467718" y="831850"/>
                </a:lnTo>
                <a:lnTo>
                  <a:pt x="486440" y="831533"/>
                </a:lnTo>
                <a:lnTo>
                  <a:pt x="494372" y="831533"/>
                </a:lnTo>
                <a:lnTo>
                  <a:pt x="502305" y="831533"/>
                </a:lnTo>
                <a:lnTo>
                  <a:pt x="510238" y="832168"/>
                </a:lnTo>
                <a:lnTo>
                  <a:pt x="517853" y="832803"/>
                </a:lnTo>
                <a:lnTo>
                  <a:pt x="525469" y="834073"/>
                </a:lnTo>
                <a:lnTo>
                  <a:pt x="532767" y="835025"/>
                </a:lnTo>
                <a:lnTo>
                  <a:pt x="540065" y="836930"/>
                </a:lnTo>
                <a:lnTo>
                  <a:pt x="547681" y="838518"/>
                </a:lnTo>
                <a:lnTo>
                  <a:pt x="554662" y="840740"/>
                </a:lnTo>
                <a:lnTo>
                  <a:pt x="562277" y="843280"/>
                </a:lnTo>
                <a:lnTo>
                  <a:pt x="569258" y="846138"/>
                </a:lnTo>
                <a:lnTo>
                  <a:pt x="575922" y="849313"/>
                </a:lnTo>
                <a:lnTo>
                  <a:pt x="582902" y="852488"/>
                </a:lnTo>
                <a:lnTo>
                  <a:pt x="589883" y="856298"/>
                </a:lnTo>
                <a:lnTo>
                  <a:pt x="596547" y="860108"/>
                </a:lnTo>
                <a:lnTo>
                  <a:pt x="602893" y="864553"/>
                </a:lnTo>
                <a:lnTo>
                  <a:pt x="607653" y="867410"/>
                </a:lnTo>
                <a:lnTo>
                  <a:pt x="612412" y="870585"/>
                </a:lnTo>
                <a:lnTo>
                  <a:pt x="616855" y="874078"/>
                </a:lnTo>
                <a:lnTo>
                  <a:pt x="621614" y="877570"/>
                </a:lnTo>
                <a:lnTo>
                  <a:pt x="625740" y="881380"/>
                </a:lnTo>
                <a:lnTo>
                  <a:pt x="630182" y="885190"/>
                </a:lnTo>
                <a:lnTo>
                  <a:pt x="633990" y="889318"/>
                </a:lnTo>
                <a:lnTo>
                  <a:pt x="637797" y="893445"/>
                </a:lnTo>
                <a:lnTo>
                  <a:pt x="642874" y="899478"/>
                </a:lnTo>
                <a:lnTo>
                  <a:pt x="647317" y="905510"/>
                </a:lnTo>
                <a:lnTo>
                  <a:pt x="652076" y="911543"/>
                </a:lnTo>
                <a:lnTo>
                  <a:pt x="656201" y="917893"/>
                </a:lnTo>
                <a:lnTo>
                  <a:pt x="660644" y="924243"/>
                </a:lnTo>
                <a:lnTo>
                  <a:pt x="664452" y="930593"/>
                </a:lnTo>
                <a:lnTo>
                  <a:pt x="668259" y="936943"/>
                </a:lnTo>
                <a:lnTo>
                  <a:pt x="671432" y="943610"/>
                </a:lnTo>
                <a:lnTo>
                  <a:pt x="674923" y="950595"/>
                </a:lnTo>
                <a:lnTo>
                  <a:pt x="677779" y="957580"/>
                </a:lnTo>
                <a:lnTo>
                  <a:pt x="680952" y="964565"/>
                </a:lnTo>
                <a:lnTo>
                  <a:pt x="683490" y="971868"/>
                </a:lnTo>
                <a:lnTo>
                  <a:pt x="686029" y="978853"/>
                </a:lnTo>
                <a:lnTo>
                  <a:pt x="688567" y="986155"/>
                </a:lnTo>
                <a:lnTo>
                  <a:pt x="690471" y="993775"/>
                </a:lnTo>
                <a:lnTo>
                  <a:pt x="692375" y="1001078"/>
                </a:lnTo>
                <a:lnTo>
                  <a:pt x="771386" y="1024890"/>
                </a:lnTo>
                <a:lnTo>
                  <a:pt x="772338" y="1026160"/>
                </a:lnTo>
                <a:lnTo>
                  <a:pt x="781540" y="1031558"/>
                </a:lnTo>
                <a:lnTo>
                  <a:pt x="791059" y="1037273"/>
                </a:lnTo>
                <a:lnTo>
                  <a:pt x="799944" y="1042988"/>
                </a:lnTo>
                <a:lnTo>
                  <a:pt x="808829" y="1049020"/>
                </a:lnTo>
                <a:lnTo>
                  <a:pt x="817713" y="1055053"/>
                </a:lnTo>
                <a:lnTo>
                  <a:pt x="826281" y="1061085"/>
                </a:lnTo>
                <a:lnTo>
                  <a:pt x="834214" y="1067753"/>
                </a:lnTo>
                <a:lnTo>
                  <a:pt x="842464" y="1074103"/>
                </a:lnTo>
                <a:lnTo>
                  <a:pt x="850397" y="1081088"/>
                </a:lnTo>
                <a:lnTo>
                  <a:pt x="857695" y="1088390"/>
                </a:lnTo>
                <a:lnTo>
                  <a:pt x="864993" y="1095693"/>
                </a:lnTo>
                <a:lnTo>
                  <a:pt x="872608" y="1103313"/>
                </a:lnTo>
                <a:lnTo>
                  <a:pt x="879589" y="1111250"/>
                </a:lnTo>
                <a:lnTo>
                  <a:pt x="886253" y="1119823"/>
                </a:lnTo>
                <a:lnTo>
                  <a:pt x="893234" y="1128395"/>
                </a:lnTo>
                <a:lnTo>
                  <a:pt x="899897" y="1136968"/>
                </a:lnTo>
                <a:lnTo>
                  <a:pt x="903070" y="1142365"/>
                </a:lnTo>
                <a:lnTo>
                  <a:pt x="906561" y="1147763"/>
                </a:lnTo>
                <a:lnTo>
                  <a:pt x="909417" y="1153478"/>
                </a:lnTo>
                <a:lnTo>
                  <a:pt x="912590" y="1159193"/>
                </a:lnTo>
                <a:lnTo>
                  <a:pt x="917984" y="1170623"/>
                </a:lnTo>
                <a:lnTo>
                  <a:pt x="922744" y="1183005"/>
                </a:lnTo>
                <a:lnTo>
                  <a:pt x="927821" y="1196023"/>
                </a:lnTo>
                <a:lnTo>
                  <a:pt x="932263" y="1209040"/>
                </a:lnTo>
                <a:lnTo>
                  <a:pt x="941148" y="1234758"/>
                </a:lnTo>
                <a:lnTo>
                  <a:pt x="945907" y="1248093"/>
                </a:lnTo>
                <a:lnTo>
                  <a:pt x="950667" y="1260475"/>
                </a:lnTo>
                <a:lnTo>
                  <a:pt x="956379" y="1272540"/>
                </a:lnTo>
                <a:lnTo>
                  <a:pt x="962408" y="1283970"/>
                </a:lnTo>
                <a:lnTo>
                  <a:pt x="965581" y="1289368"/>
                </a:lnTo>
                <a:lnTo>
                  <a:pt x="968754" y="1295083"/>
                </a:lnTo>
                <a:lnTo>
                  <a:pt x="972879" y="1300163"/>
                </a:lnTo>
                <a:lnTo>
                  <a:pt x="976369" y="1304925"/>
                </a:lnTo>
                <a:lnTo>
                  <a:pt x="980495" y="1309688"/>
                </a:lnTo>
                <a:lnTo>
                  <a:pt x="984620" y="1314133"/>
                </a:lnTo>
                <a:lnTo>
                  <a:pt x="989379" y="1318578"/>
                </a:lnTo>
                <a:lnTo>
                  <a:pt x="993822" y="1322388"/>
                </a:lnTo>
                <a:lnTo>
                  <a:pt x="1011908" y="1335088"/>
                </a:lnTo>
                <a:lnTo>
                  <a:pt x="1020159" y="1341438"/>
                </a:lnTo>
                <a:lnTo>
                  <a:pt x="1028091" y="1347470"/>
                </a:lnTo>
                <a:lnTo>
                  <a:pt x="1035072" y="1354138"/>
                </a:lnTo>
                <a:lnTo>
                  <a:pt x="1038563" y="1357630"/>
                </a:lnTo>
                <a:lnTo>
                  <a:pt x="1041736" y="1361758"/>
                </a:lnTo>
                <a:lnTo>
                  <a:pt x="1044909" y="1365568"/>
                </a:lnTo>
                <a:lnTo>
                  <a:pt x="1048082" y="1370013"/>
                </a:lnTo>
                <a:lnTo>
                  <a:pt x="1050938" y="1374775"/>
                </a:lnTo>
                <a:lnTo>
                  <a:pt x="1053794" y="1379538"/>
                </a:lnTo>
                <a:lnTo>
                  <a:pt x="1057919" y="1387793"/>
                </a:lnTo>
                <a:lnTo>
                  <a:pt x="1061409" y="1396683"/>
                </a:lnTo>
                <a:lnTo>
                  <a:pt x="1064265" y="1405573"/>
                </a:lnTo>
                <a:lnTo>
                  <a:pt x="1066803" y="1414463"/>
                </a:lnTo>
                <a:lnTo>
                  <a:pt x="1068707" y="1423671"/>
                </a:lnTo>
                <a:lnTo>
                  <a:pt x="1069977" y="1432878"/>
                </a:lnTo>
                <a:lnTo>
                  <a:pt x="1071246" y="1442403"/>
                </a:lnTo>
                <a:lnTo>
                  <a:pt x="1071563" y="1451928"/>
                </a:lnTo>
                <a:lnTo>
                  <a:pt x="1071563" y="1461453"/>
                </a:lnTo>
                <a:lnTo>
                  <a:pt x="1071563" y="1471296"/>
                </a:lnTo>
                <a:lnTo>
                  <a:pt x="1070611" y="1481456"/>
                </a:lnTo>
                <a:lnTo>
                  <a:pt x="1069659" y="1491298"/>
                </a:lnTo>
                <a:lnTo>
                  <a:pt x="1068390" y="1501141"/>
                </a:lnTo>
                <a:lnTo>
                  <a:pt x="1066803" y="1510983"/>
                </a:lnTo>
                <a:lnTo>
                  <a:pt x="1065217" y="1521461"/>
                </a:lnTo>
                <a:lnTo>
                  <a:pt x="1062996" y="1531303"/>
                </a:lnTo>
                <a:lnTo>
                  <a:pt x="1058236" y="1551306"/>
                </a:lnTo>
                <a:lnTo>
                  <a:pt x="1053159" y="1571626"/>
                </a:lnTo>
                <a:lnTo>
                  <a:pt x="1047447" y="1591311"/>
                </a:lnTo>
                <a:lnTo>
                  <a:pt x="1041736" y="1611313"/>
                </a:lnTo>
                <a:lnTo>
                  <a:pt x="1030313" y="1649096"/>
                </a:lnTo>
                <a:lnTo>
                  <a:pt x="1025553" y="1667193"/>
                </a:lnTo>
                <a:lnTo>
                  <a:pt x="1020793" y="1684973"/>
                </a:lnTo>
                <a:lnTo>
                  <a:pt x="1013495" y="1717041"/>
                </a:lnTo>
                <a:lnTo>
                  <a:pt x="1005562" y="1749743"/>
                </a:lnTo>
                <a:lnTo>
                  <a:pt x="997629" y="1781493"/>
                </a:lnTo>
                <a:lnTo>
                  <a:pt x="993187" y="1797686"/>
                </a:lnTo>
                <a:lnTo>
                  <a:pt x="988745" y="1813243"/>
                </a:lnTo>
                <a:lnTo>
                  <a:pt x="983668" y="1828801"/>
                </a:lnTo>
                <a:lnTo>
                  <a:pt x="978273" y="1844041"/>
                </a:lnTo>
                <a:lnTo>
                  <a:pt x="972879" y="1859281"/>
                </a:lnTo>
                <a:lnTo>
                  <a:pt x="966215" y="1874521"/>
                </a:lnTo>
                <a:lnTo>
                  <a:pt x="959552" y="1889126"/>
                </a:lnTo>
                <a:lnTo>
                  <a:pt x="952254" y="1903731"/>
                </a:lnTo>
                <a:lnTo>
                  <a:pt x="944321" y="1918336"/>
                </a:lnTo>
                <a:lnTo>
                  <a:pt x="935436" y="1932623"/>
                </a:lnTo>
                <a:lnTo>
                  <a:pt x="931628" y="1939291"/>
                </a:lnTo>
                <a:lnTo>
                  <a:pt x="928773" y="1945958"/>
                </a:lnTo>
                <a:lnTo>
                  <a:pt x="926234" y="1952308"/>
                </a:lnTo>
                <a:lnTo>
                  <a:pt x="924965" y="1958658"/>
                </a:lnTo>
                <a:lnTo>
                  <a:pt x="924330" y="1965008"/>
                </a:lnTo>
                <a:lnTo>
                  <a:pt x="924013" y="1971041"/>
                </a:lnTo>
                <a:lnTo>
                  <a:pt x="924330" y="1977391"/>
                </a:lnTo>
                <a:lnTo>
                  <a:pt x="924965" y="1983423"/>
                </a:lnTo>
                <a:lnTo>
                  <a:pt x="925917" y="1989773"/>
                </a:lnTo>
                <a:lnTo>
                  <a:pt x="927503" y="1996123"/>
                </a:lnTo>
                <a:lnTo>
                  <a:pt x="930994" y="2008823"/>
                </a:lnTo>
                <a:lnTo>
                  <a:pt x="934802" y="2022476"/>
                </a:lnTo>
                <a:lnTo>
                  <a:pt x="939244" y="2036446"/>
                </a:lnTo>
                <a:lnTo>
                  <a:pt x="966850" y="2144713"/>
                </a:lnTo>
                <a:lnTo>
                  <a:pt x="295100" y="2144713"/>
                </a:lnTo>
                <a:lnTo>
                  <a:pt x="292562" y="2130108"/>
                </a:lnTo>
                <a:lnTo>
                  <a:pt x="289071" y="2115821"/>
                </a:lnTo>
                <a:lnTo>
                  <a:pt x="285581" y="2101851"/>
                </a:lnTo>
                <a:lnTo>
                  <a:pt x="281456" y="2087563"/>
                </a:lnTo>
                <a:lnTo>
                  <a:pt x="276696" y="2073276"/>
                </a:lnTo>
                <a:lnTo>
                  <a:pt x="271937" y="2059623"/>
                </a:lnTo>
                <a:lnTo>
                  <a:pt x="266542" y="2046288"/>
                </a:lnTo>
                <a:lnTo>
                  <a:pt x="260831" y="2032318"/>
                </a:lnTo>
                <a:lnTo>
                  <a:pt x="254802" y="2019301"/>
                </a:lnTo>
                <a:lnTo>
                  <a:pt x="248138" y="2006283"/>
                </a:lnTo>
                <a:lnTo>
                  <a:pt x="241475" y="1992948"/>
                </a:lnTo>
                <a:lnTo>
                  <a:pt x="233859" y="1980566"/>
                </a:lnTo>
                <a:lnTo>
                  <a:pt x="226561" y="1968183"/>
                </a:lnTo>
                <a:lnTo>
                  <a:pt x="218311" y="1955801"/>
                </a:lnTo>
                <a:lnTo>
                  <a:pt x="210378" y="1944053"/>
                </a:lnTo>
                <a:lnTo>
                  <a:pt x="201810" y="1932623"/>
                </a:lnTo>
                <a:lnTo>
                  <a:pt x="197051" y="1927226"/>
                </a:lnTo>
                <a:lnTo>
                  <a:pt x="192608" y="1921511"/>
                </a:lnTo>
                <a:lnTo>
                  <a:pt x="182772" y="1911033"/>
                </a:lnTo>
                <a:lnTo>
                  <a:pt x="172300" y="1900238"/>
                </a:lnTo>
                <a:lnTo>
                  <a:pt x="161512" y="1889126"/>
                </a:lnTo>
                <a:lnTo>
                  <a:pt x="150723" y="1878331"/>
                </a:lnTo>
                <a:lnTo>
                  <a:pt x="140252" y="1867218"/>
                </a:lnTo>
                <a:lnTo>
                  <a:pt x="135175" y="1861186"/>
                </a:lnTo>
                <a:lnTo>
                  <a:pt x="130415" y="1855788"/>
                </a:lnTo>
                <a:lnTo>
                  <a:pt x="125656" y="1849756"/>
                </a:lnTo>
                <a:lnTo>
                  <a:pt x="121531" y="1843723"/>
                </a:lnTo>
                <a:lnTo>
                  <a:pt x="0" y="1283335"/>
                </a:lnTo>
                <a:lnTo>
                  <a:pt x="1587" y="1273810"/>
                </a:lnTo>
                <a:lnTo>
                  <a:pt x="3173" y="1264920"/>
                </a:lnTo>
                <a:lnTo>
                  <a:pt x="5077" y="1256348"/>
                </a:lnTo>
                <a:lnTo>
                  <a:pt x="7616" y="1248410"/>
                </a:lnTo>
                <a:lnTo>
                  <a:pt x="10154" y="1240473"/>
                </a:lnTo>
                <a:lnTo>
                  <a:pt x="13644" y="1233170"/>
                </a:lnTo>
                <a:lnTo>
                  <a:pt x="16818" y="1226503"/>
                </a:lnTo>
                <a:lnTo>
                  <a:pt x="20625" y="1219518"/>
                </a:lnTo>
                <a:lnTo>
                  <a:pt x="24433" y="1213168"/>
                </a:lnTo>
                <a:lnTo>
                  <a:pt x="28558" y="1207135"/>
                </a:lnTo>
                <a:lnTo>
                  <a:pt x="33318" y="1201420"/>
                </a:lnTo>
                <a:lnTo>
                  <a:pt x="38077" y="1196340"/>
                </a:lnTo>
                <a:lnTo>
                  <a:pt x="42837" y="1191260"/>
                </a:lnTo>
                <a:lnTo>
                  <a:pt x="48231" y="1186180"/>
                </a:lnTo>
                <a:lnTo>
                  <a:pt x="53943" y="1181735"/>
                </a:lnTo>
                <a:lnTo>
                  <a:pt x="59655" y="1176973"/>
                </a:lnTo>
                <a:lnTo>
                  <a:pt x="65684" y="1173163"/>
                </a:lnTo>
                <a:lnTo>
                  <a:pt x="71395" y="1169035"/>
                </a:lnTo>
                <a:lnTo>
                  <a:pt x="78059" y="1165225"/>
                </a:lnTo>
                <a:lnTo>
                  <a:pt x="84405" y="1161098"/>
                </a:lnTo>
                <a:lnTo>
                  <a:pt x="97732" y="1154113"/>
                </a:lnTo>
                <a:lnTo>
                  <a:pt x="112011" y="1147445"/>
                </a:lnTo>
                <a:lnTo>
                  <a:pt x="125973" y="1140778"/>
                </a:lnTo>
                <a:lnTo>
                  <a:pt x="140887" y="1134428"/>
                </a:lnTo>
                <a:lnTo>
                  <a:pt x="171666" y="1120775"/>
                </a:lnTo>
                <a:lnTo>
                  <a:pt x="227513" y="1095375"/>
                </a:lnTo>
                <a:lnTo>
                  <a:pt x="231955" y="1093153"/>
                </a:lnTo>
                <a:lnTo>
                  <a:pt x="235446" y="1090930"/>
                </a:lnTo>
                <a:lnTo>
                  <a:pt x="237984" y="1089025"/>
                </a:lnTo>
                <a:lnTo>
                  <a:pt x="240523" y="1086803"/>
                </a:lnTo>
                <a:lnTo>
                  <a:pt x="242109" y="1084263"/>
                </a:lnTo>
                <a:lnTo>
                  <a:pt x="243061" y="1081723"/>
                </a:lnTo>
                <a:lnTo>
                  <a:pt x="244330" y="1079500"/>
                </a:lnTo>
                <a:lnTo>
                  <a:pt x="244648" y="1076643"/>
                </a:lnTo>
                <a:lnTo>
                  <a:pt x="244965" y="1073785"/>
                </a:lnTo>
                <a:lnTo>
                  <a:pt x="244965" y="1070610"/>
                </a:lnTo>
                <a:lnTo>
                  <a:pt x="244965" y="1062990"/>
                </a:lnTo>
                <a:lnTo>
                  <a:pt x="244330" y="1055053"/>
                </a:lnTo>
                <a:lnTo>
                  <a:pt x="244330" y="1044893"/>
                </a:lnTo>
                <a:lnTo>
                  <a:pt x="245282" y="981710"/>
                </a:lnTo>
                <a:lnTo>
                  <a:pt x="247186" y="876935"/>
                </a:lnTo>
                <a:lnTo>
                  <a:pt x="250677" y="601345"/>
                </a:lnTo>
                <a:lnTo>
                  <a:pt x="253532" y="337185"/>
                </a:lnTo>
                <a:lnTo>
                  <a:pt x="254802" y="203200"/>
                </a:lnTo>
                <a:lnTo>
                  <a:pt x="255119" y="198120"/>
                </a:lnTo>
                <a:lnTo>
                  <a:pt x="255754" y="192723"/>
                </a:lnTo>
                <a:lnTo>
                  <a:pt x="256071" y="187643"/>
                </a:lnTo>
                <a:lnTo>
                  <a:pt x="256706" y="182880"/>
                </a:lnTo>
                <a:lnTo>
                  <a:pt x="257657" y="178118"/>
                </a:lnTo>
                <a:lnTo>
                  <a:pt x="259244" y="173673"/>
                </a:lnTo>
                <a:lnTo>
                  <a:pt x="260513" y="168910"/>
                </a:lnTo>
                <a:lnTo>
                  <a:pt x="262100" y="164783"/>
                </a:lnTo>
                <a:lnTo>
                  <a:pt x="263686" y="160655"/>
                </a:lnTo>
                <a:lnTo>
                  <a:pt x="265908" y="156528"/>
                </a:lnTo>
                <a:lnTo>
                  <a:pt x="267494" y="153035"/>
                </a:lnTo>
                <a:lnTo>
                  <a:pt x="270033" y="149225"/>
                </a:lnTo>
                <a:lnTo>
                  <a:pt x="272571" y="145415"/>
                </a:lnTo>
                <a:lnTo>
                  <a:pt x="275110" y="142240"/>
                </a:lnTo>
                <a:lnTo>
                  <a:pt x="280504" y="135890"/>
                </a:lnTo>
                <a:lnTo>
                  <a:pt x="286533" y="130810"/>
                </a:lnTo>
                <a:lnTo>
                  <a:pt x="293196" y="125730"/>
                </a:lnTo>
                <a:lnTo>
                  <a:pt x="299860" y="121603"/>
                </a:lnTo>
                <a:lnTo>
                  <a:pt x="306841" y="117793"/>
                </a:lnTo>
                <a:lnTo>
                  <a:pt x="314456" y="115253"/>
                </a:lnTo>
                <a:lnTo>
                  <a:pt x="321755" y="113348"/>
                </a:lnTo>
                <a:lnTo>
                  <a:pt x="329687" y="111760"/>
                </a:lnTo>
                <a:lnTo>
                  <a:pt x="337303" y="111125"/>
                </a:lnTo>
                <a:close/>
                <a:moveTo>
                  <a:pt x="331337" y="0"/>
                </a:moveTo>
                <a:lnTo>
                  <a:pt x="337980" y="0"/>
                </a:lnTo>
                <a:lnTo>
                  <a:pt x="344939" y="0"/>
                </a:lnTo>
                <a:lnTo>
                  <a:pt x="351266" y="318"/>
                </a:lnTo>
                <a:lnTo>
                  <a:pt x="357909" y="955"/>
                </a:lnTo>
                <a:lnTo>
                  <a:pt x="364236" y="1910"/>
                </a:lnTo>
                <a:lnTo>
                  <a:pt x="370247" y="3182"/>
                </a:lnTo>
                <a:lnTo>
                  <a:pt x="376257" y="4774"/>
                </a:lnTo>
                <a:lnTo>
                  <a:pt x="382268" y="6683"/>
                </a:lnTo>
                <a:lnTo>
                  <a:pt x="387962" y="8274"/>
                </a:lnTo>
                <a:lnTo>
                  <a:pt x="393656" y="10820"/>
                </a:lnTo>
                <a:lnTo>
                  <a:pt x="399034" y="13366"/>
                </a:lnTo>
                <a:lnTo>
                  <a:pt x="404728" y="16230"/>
                </a:lnTo>
                <a:lnTo>
                  <a:pt x="410106" y="19412"/>
                </a:lnTo>
                <a:lnTo>
                  <a:pt x="415167" y="22594"/>
                </a:lnTo>
                <a:lnTo>
                  <a:pt x="420229" y="26413"/>
                </a:lnTo>
                <a:lnTo>
                  <a:pt x="425290" y="30550"/>
                </a:lnTo>
                <a:lnTo>
                  <a:pt x="430352" y="34687"/>
                </a:lnTo>
                <a:lnTo>
                  <a:pt x="434781" y="38823"/>
                </a:lnTo>
                <a:lnTo>
                  <a:pt x="438893" y="43597"/>
                </a:lnTo>
                <a:lnTo>
                  <a:pt x="443006" y="48052"/>
                </a:lnTo>
                <a:lnTo>
                  <a:pt x="446802" y="53144"/>
                </a:lnTo>
                <a:lnTo>
                  <a:pt x="450282" y="57599"/>
                </a:lnTo>
                <a:lnTo>
                  <a:pt x="453445" y="62690"/>
                </a:lnTo>
                <a:lnTo>
                  <a:pt x="456292" y="68100"/>
                </a:lnTo>
                <a:lnTo>
                  <a:pt x="458823" y="73510"/>
                </a:lnTo>
                <a:lnTo>
                  <a:pt x="461037" y="78601"/>
                </a:lnTo>
                <a:lnTo>
                  <a:pt x="462935" y="84011"/>
                </a:lnTo>
                <a:lnTo>
                  <a:pt x="464517" y="89421"/>
                </a:lnTo>
                <a:lnTo>
                  <a:pt x="465782" y="95149"/>
                </a:lnTo>
                <a:lnTo>
                  <a:pt x="467048" y="101195"/>
                </a:lnTo>
                <a:lnTo>
                  <a:pt x="467680" y="106605"/>
                </a:lnTo>
                <a:lnTo>
                  <a:pt x="468313" y="112651"/>
                </a:lnTo>
                <a:lnTo>
                  <a:pt x="468313" y="118698"/>
                </a:lnTo>
                <a:lnTo>
                  <a:pt x="468313" y="124107"/>
                </a:lnTo>
                <a:lnTo>
                  <a:pt x="467997" y="129517"/>
                </a:lnTo>
                <a:lnTo>
                  <a:pt x="466415" y="139700"/>
                </a:lnTo>
                <a:lnTo>
                  <a:pt x="464517" y="130472"/>
                </a:lnTo>
                <a:lnTo>
                  <a:pt x="461986" y="121880"/>
                </a:lnTo>
                <a:lnTo>
                  <a:pt x="458506" y="113606"/>
                </a:lnTo>
                <a:lnTo>
                  <a:pt x="454078" y="105332"/>
                </a:lnTo>
                <a:lnTo>
                  <a:pt x="449332" y="98013"/>
                </a:lnTo>
                <a:lnTo>
                  <a:pt x="443638" y="90057"/>
                </a:lnTo>
                <a:lnTo>
                  <a:pt x="437311" y="83057"/>
                </a:lnTo>
                <a:lnTo>
                  <a:pt x="430352" y="75737"/>
                </a:lnTo>
                <a:lnTo>
                  <a:pt x="425290" y="71919"/>
                </a:lnTo>
                <a:lnTo>
                  <a:pt x="420229" y="67782"/>
                </a:lnTo>
                <a:lnTo>
                  <a:pt x="415484" y="64281"/>
                </a:lnTo>
                <a:lnTo>
                  <a:pt x="410106" y="60463"/>
                </a:lnTo>
                <a:lnTo>
                  <a:pt x="404728" y="57280"/>
                </a:lnTo>
                <a:lnTo>
                  <a:pt x="399667" y="54416"/>
                </a:lnTo>
                <a:lnTo>
                  <a:pt x="393973" y="52189"/>
                </a:lnTo>
                <a:lnTo>
                  <a:pt x="388278" y="49961"/>
                </a:lnTo>
                <a:lnTo>
                  <a:pt x="382268" y="47734"/>
                </a:lnTo>
                <a:lnTo>
                  <a:pt x="376257" y="46143"/>
                </a:lnTo>
                <a:lnTo>
                  <a:pt x="370247" y="44552"/>
                </a:lnTo>
                <a:lnTo>
                  <a:pt x="364236" y="43279"/>
                </a:lnTo>
                <a:lnTo>
                  <a:pt x="357909" y="42642"/>
                </a:lnTo>
                <a:lnTo>
                  <a:pt x="351583" y="41687"/>
                </a:lnTo>
                <a:lnTo>
                  <a:pt x="344939" y="41369"/>
                </a:lnTo>
                <a:lnTo>
                  <a:pt x="337980" y="41051"/>
                </a:lnTo>
                <a:lnTo>
                  <a:pt x="331337" y="41369"/>
                </a:lnTo>
                <a:lnTo>
                  <a:pt x="324693" y="41687"/>
                </a:lnTo>
                <a:lnTo>
                  <a:pt x="318367" y="42642"/>
                </a:lnTo>
                <a:lnTo>
                  <a:pt x="312040" y="43279"/>
                </a:lnTo>
                <a:lnTo>
                  <a:pt x="305713" y="44552"/>
                </a:lnTo>
                <a:lnTo>
                  <a:pt x="299702" y="46143"/>
                </a:lnTo>
                <a:lnTo>
                  <a:pt x="293692" y="47734"/>
                </a:lnTo>
                <a:lnTo>
                  <a:pt x="287998" y="49961"/>
                </a:lnTo>
                <a:lnTo>
                  <a:pt x="282304" y="52189"/>
                </a:lnTo>
                <a:lnTo>
                  <a:pt x="276609" y="54416"/>
                </a:lnTo>
                <a:lnTo>
                  <a:pt x="270915" y="57280"/>
                </a:lnTo>
                <a:lnTo>
                  <a:pt x="265854" y="60463"/>
                </a:lnTo>
                <a:lnTo>
                  <a:pt x="260476" y="64281"/>
                </a:lnTo>
                <a:lnTo>
                  <a:pt x="255414" y="67782"/>
                </a:lnTo>
                <a:lnTo>
                  <a:pt x="250669" y="71919"/>
                </a:lnTo>
                <a:lnTo>
                  <a:pt x="245608" y="75737"/>
                </a:lnTo>
                <a:lnTo>
                  <a:pt x="238648" y="83057"/>
                </a:lnTo>
                <a:lnTo>
                  <a:pt x="232321" y="90057"/>
                </a:lnTo>
                <a:lnTo>
                  <a:pt x="226627" y="98013"/>
                </a:lnTo>
                <a:lnTo>
                  <a:pt x="221882" y="105332"/>
                </a:lnTo>
                <a:lnTo>
                  <a:pt x="217770" y="113606"/>
                </a:lnTo>
                <a:lnTo>
                  <a:pt x="214290" y="121880"/>
                </a:lnTo>
                <a:lnTo>
                  <a:pt x="211443" y="130472"/>
                </a:lnTo>
                <a:lnTo>
                  <a:pt x="209545" y="139700"/>
                </a:lnTo>
                <a:lnTo>
                  <a:pt x="208596" y="134927"/>
                </a:lnTo>
                <a:lnTo>
                  <a:pt x="208279" y="129517"/>
                </a:lnTo>
                <a:lnTo>
                  <a:pt x="207963" y="124107"/>
                </a:lnTo>
                <a:lnTo>
                  <a:pt x="207963" y="118698"/>
                </a:lnTo>
                <a:lnTo>
                  <a:pt x="207963" y="112651"/>
                </a:lnTo>
                <a:lnTo>
                  <a:pt x="208279" y="106605"/>
                </a:lnTo>
                <a:lnTo>
                  <a:pt x="209228" y="101195"/>
                </a:lnTo>
                <a:lnTo>
                  <a:pt x="210177" y="95149"/>
                </a:lnTo>
                <a:lnTo>
                  <a:pt x="211443" y="89421"/>
                </a:lnTo>
                <a:lnTo>
                  <a:pt x="213341" y="84011"/>
                </a:lnTo>
                <a:lnTo>
                  <a:pt x="214923" y="78601"/>
                </a:lnTo>
                <a:lnTo>
                  <a:pt x="217137" y="73510"/>
                </a:lnTo>
                <a:lnTo>
                  <a:pt x="219984" y="68100"/>
                </a:lnTo>
                <a:lnTo>
                  <a:pt x="222831" y="62690"/>
                </a:lnTo>
                <a:lnTo>
                  <a:pt x="225678" y="57599"/>
                </a:lnTo>
                <a:lnTo>
                  <a:pt x="229158" y="53144"/>
                </a:lnTo>
                <a:lnTo>
                  <a:pt x="232638" y="48052"/>
                </a:lnTo>
                <a:lnTo>
                  <a:pt x="236750" y="43597"/>
                </a:lnTo>
                <a:lnTo>
                  <a:pt x="241179" y="38823"/>
                </a:lnTo>
                <a:lnTo>
                  <a:pt x="245608" y="34687"/>
                </a:lnTo>
                <a:lnTo>
                  <a:pt x="250669" y="30550"/>
                </a:lnTo>
                <a:lnTo>
                  <a:pt x="255414" y="26413"/>
                </a:lnTo>
                <a:lnTo>
                  <a:pt x="260476" y="22594"/>
                </a:lnTo>
                <a:lnTo>
                  <a:pt x="265854" y="19412"/>
                </a:lnTo>
                <a:lnTo>
                  <a:pt x="270915" y="16230"/>
                </a:lnTo>
                <a:lnTo>
                  <a:pt x="276609" y="13366"/>
                </a:lnTo>
                <a:lnTo>
                  <a:pt x="282304" y="10820"/>
                </a:lnTo>
                <a:lnTo>
                  <a:pt x="287998" y="8274"/>
                </a:lnTo>
                <a:lnTo>
                  <a:pt x="293692" y="6683"/>
                </a:lnTo>
                <a:lnTo>
                  <a:pt x="299702" y="4774"/>
                </a:lnTo>
                <a:lnTo>
                  <a:pt x="305713" y="3182"/>
                </a:lnTo>
                <a:lnTo>
                  <a:pt x="312040" y="1910"/>
                </a:lnTo>
                <a:lnTo>
                  <a:pt x="318367" y="955"/>
                </a:lnTo>
                <a:lnTo>
                  <a:pt x="324693" y="318"/>
                </a:lnTo>
                <a:lnTo>
                  <a:pt x="331337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CD35-071D-4206-A13A-CB32452122C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5E17-2B06-438A-9171-D3154ADBF59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C66C-AC12-45DC-BCAD-2DE629F5B76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34C2-A899-4778-B17A-AE6F041B52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8"/>
          <p:cNvSpPr/>
          <p:nvPr/>
        </p:nvSpPr>
        <p:spPr>
          <a:xfrm>
            <a:off x="3765600" y="2048040"/>
            <a:ext cx="1639800" cy="1963440"/>
          </a:xfrm>
          <a:prstGeom prst="line">
            <a:avLst/>
          </a:prstGeom>
          <a:ln w="6480">
            <a:solidFill>
              <a:srgbClr val="6079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9"/>
          <p:cNvSpPr/>
          <p:nvPr/>
        </p:nvSpPr>
        <p:spPr>
          <a:xfrm>
            <a:off x="3278160" y="1835280"/>
            <a:ext cx="2057400" cy="2462040"/>
          </a:xfrm>
          <a:prstGeom prst="line">
            <a:avLst/>
          </a:prstGeom>
          <a:ln w="6480">
            <a:solidFill>
              <a:srgbClr val="ada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20"/>
          <p:cNvSpPr/>
          <p:nvPr/>
        </p:nvSpPr>
        <p:spPr>
          <a:xfrm>
            <a:off x="3457440" y="2419200"/>
            <a:ext cx="2055960" cy="2463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3F53-4BAC-4022-B013-9D23D02C815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CF5D-F895-49BD-9E0C-55258972D9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27CD-8EA5-4752-A823-7CB44A8550B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FF0B-8A23-4C12-9261-0674FC96274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090E-774D-4D7F-92D3-E5E47C6082C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1B32-07F2-47EC-AEB4-7EEA65ED20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KSO_Shape">
            <a:hlinkClick r:id="rId3"/>
          </p:cNvPr>
          <p:cNvSpPr/>
          <p:nvPr/>
        </p:nvSpPr>
        <p:spPr>
          <a:xfrm>
            <a:off x="3857760" y="4092480"/>
            <a:ext cx="1428480" cy="1470240"/>
          </a:xfrm>
          <a:custGeom>
            <a:avLst/>
            <a:gdLst/>
            <a:ahLst/>
            <a:rect l="l" t="t" r="r" b="b"/>
            <a:pathLst>
              <a:path w="2208213" h="1703388">
                <a:moveTo>
                  <a:pt x="1762889" y="844550"/>
                </a:moveTo>
                <a:lnTo>
                  <a:pt x="2208213" y="965111"/>
                </a:lnTo>
                <a:lnTo>
                  <a:pt x="1990788" y="1371846"/>
                </a:lnTo>
                <a:lnTo>
                  <a:pt x="1929846" y="1230662"/>
                </a:lnTo>
                <a:lnTo>
                  <a:pt x="867796" y="1703388"/>
                </a:lnTo>
                <a:lnTo>
                  <a:pt x="548483" y="1444499"/>
                </a:lnTo>
                <a:lnTo>
                  <a:pt x="97445" y="1618044"/>
                </a:lnTo>
                <a:lnTo>
                  <a:pt x="0" y="1371211"/>
                </a:lnTo>
                <a:lnTo>
                  <a:pt x="594824" y="1140876"/>
                </a:lnTo>
                <a:lnTo>
                  <a:pt x="908107" y="1394689"/>
                </a:lnTo>
                <a:lnTo>
                  <a:pt x="1824148" y="987003"/>
                </a:lnTo>
                <a:lnTo>
                  <a:pt x="1762889" y="844550"/>
                </a:lnTo>
                <a:close/>
                <a:moveTo>
                  <a:pt x="958430" y="595312"/>
                </a:moveTo>
                <a:lnTo>
                  <a:pt x="972077" y="621956"/>
                </a:lnTo>
                <a:lnTo>
                  <a:pt x="992390" y="661604"/>
                </a:lnTo>
                <a:lnTo>
                  <a:pt x="1042853" y="760249"/>
                </a:lnTo>
                <a:lnTo>
                  <a:pt x="1108868" y="888076"/>
                </a:lnTo>
                <a:lnTo>
                  <a:pt x="1115533" y="879195"/>
                </a:lnTo>
                <a:lnTo>
                  <a:pt x="1123467" y="866825"/>
                </a:lnTo>
                <a:lnTo>
                  <a:pt x="1132354" y="851917"/>
                </a:lnTo>
                <a:lnTo>
                  <a:pt x="1142827" y="834154"/>
                </a:lnTo>
                <a:lnTo>
                  <a:pt x="1153618" y="814488"/>
                </a:lnTo>
                <a:lnTo>
                  <a:pt x="1165044" y="793554"/>
                </a:lnTo>
                <a:lnTo>
                  <a:pt x="1189165" y="748196"/>
                </a:lnTo>
                <a:lnTo>
                  <a:pt x="1212651" y="702204"/>
                </a:lnTo>
                <a:lnTo>
                  <a:pt x="1234233" y="659701"/>
                </a:lnTo>
                <a:lnTo>
                  <a:pt x="1252323" y="623541"/>
                </a:lnTo>
                <a:lnTo>
                  <a:pt x="1264701" y="597849"/>
                </a:lnTo>
                <a:lnTo>
                  <a:pt x="1278983" y="601973"/>
                </a:lnTo>
                <a:lnTo>
                  <a:pt x="1292313" y="605779"/>
                </a:lnTo>
                <a:lnTo>
                  <a:pt x="1305643" y="610220"/>
                </a:lnTo>
                <a:lnTo>
                  <a:pt x="1318973" y="614343"/>
                </a:lnTo>
                <a:lnTo>
                  <a:pt x="1344046" y="623541"/>
                </a:lnTo>
                <a:lnTo>
                  <a:pt x="1368167" y="633057"/>
                </a:lnTo>
                <a:lnTo>
                  <a:pt x="1391018" y="642890"/>
                </a:lnTo>
                <a:lnTo>
                  <a:pt x="1411965" y="652723"/>
                </a:lnTo>
                <a:lnTo>
                  <a:pt x="1431643" y="662556"/>
                </a:lnTo>
                <a:lnTo>
                  <a:pt x="1449733" y="671754"/>
                </a:lnTo>
                <a:lnTo>
                  <a:pt x="1465602" y="680952"/>
                </a:lnTo>
                <a:lnTo>
                  <a:pt x="1480202" y="689199"/>
                </a:lnTo>
                <a:lnTo>
                  <a:pt x="1492897" y="696812"/>
                </a:lnTo>
                <a:lnTo>
                  <a:pt x="1503053" y="703473"/>
                </a:lnTo>
                <a:lnTo>
                  <a:pt x="1517335" y="712671"/>
                </a:lnTo>
                <a:lnTo>
                  <a:pt x="1522413" y="716477"/>
                </a:lnTo>
                <a:lnTo>
                  <a:pt x="1522413" y="764373"/>
                </a:lnTo>
                <a:lnTo>
                  <a:pt x="1522413" y="948342"/>
                </a:lnTo>
                <a:lnTo>
                  <a:pt x="1522413" y="975937"/>
                </a:lnTo>
                <a:lnTo>
                  <a:pt x="929549" y="1239837"/>
                </a:lnTo>
                <a:lnTo>
                  <a:pt x="688975" y="1045084"/>
                </a:lnTo>
                <a:lnTo>
                  <a:pt x="688975" y="948342"/>
                </a:lnTo>
                <a:lnTo>
                  <a:pt x="688975" y="764373"/>
                </a:lnTo>
                <a:lnTo>
                  <a:pt x="688975" y="716477"/>
                </a:lnTo>
                <a:lnTo>
                  <a:pt x="694053" y="712671"/>
                </a:lnTo>
                <a:lnTo>
                  <a:pt x="709605" y="702521"/>
                </a:lnTo>
                <a:lnTo>
                  <a:pt x="720396" y="695860"/>
                </a:lnTo>
                <a:lnTo>
                  <a:pt x="733408" y="687931"/>
                </a:lnTo>
                <a:lnTo>
                  <a:pt x="748325" y="679366"/>
                </a:lnTo>
                <a:lnTo>
                  <a:pt x="765781" y="669851"/>
                </a:lnTo>
                <a:lnTo>
                  <a:pt x="784506" y="660018"/>
                </a:lnTo>
                <a:lnTo>
                  <a:pt x="805136" y="650185"/>
                </a:lnTo>
                <a:lnTo>
                  <a:pt x="827035" y="640035"/>
                </a:lnTo>
                <a:lnTo>
                  <a:pt x="851156" y="630202"/>
                </a:lnTo>
                <a:lnTo>
                  <a:pt x="875912" y="620370"/>
                </a:lnTo>
                <a:lnTo>
                  <a:pt x="889241" y="615612"/>
                </a:lnTo>
                <a:lnTo>
                  <a:pt x="902571" y="611488"/>
                </a:lnTo>
                <a:lnTo>
                  <a:pt x="916219" y="607048"/>
                </a:lnTo>
                <a:lnTo>
                  <a:pt x="930183" y="602607"/>
                </a:lnTo>
                <a:lnTo>
                  <a:pt x="944465" y="598801"/>
                </a:lnTo>
                <a:lnTo>
                  <a:pt x="958430" y="595312"/>
                </a:lnTo>
                <a:close/>
                <a:moveTo>
                  <a:pt x="1619885" y="414337"/>
                </a:moveTo>
                <a:lnTo>
                  <a:pt x="1631315" y="437197"/>
                </a:lnTo>
                <a:lnTo>
                  <a:pt x="1648778" y="470852"/>
                </a:lnTo>
                <a:lnTo>
                  <a:pt x="1691640" y="554354"/>
                </a:lnTo>
                <a:lnTo>
                  <a:pt x="1747520" y="662940"/>
                </a:lnTo>
                <a:lnTo>
                  <a:pt x="1752918" y="655637"/>
                </a:lnTo>
                <a:lnTo>
                  <a:pt x="1759585" y="645160"/>
                </a:lnTo>
                <a:lnTo>
                  <a:pt x="1767523" y="632142"/>
                </a:lnTo>
                <a:lnTo>
                  <a:pt x="1776095" y="617220"/>
                </a:lnTo>
                <a:lnTo>
                  <a:pt x="1795463" y="582612"/>
                </a:lnTo>
                <a:lnTo>
                  <a:pt x="1815465" y="544194"/>
                </a:lnTo>
                <a:lnTo>
                  <a:pt x="1835785" y="505142"/>
                </a:lnTo>
                <a:lnTo>
                  <a:pt x="1854200" y="468947"/>
                </a:lnTo>
                <a:lnTo>
                  <a:pt x="1869440" y="438149"/>
                </a:lnTo>
                <a:lnTo>
                  <a:pt x="1879600" y="416559"/>
                </a:lnTo>
                <a:lnTo>
                  <a:pt x="1891665" y="419734"/>
                </a:lnTo>
                <a:lnTo>
                  <a:pt x="1903413" y="423227"/>
                </a:lnTo>
                <a:lnTo>
                  <a:pt x="1925638" y="430212"/>
                </a:lnTo>
                <a:lnTo>
                  <a:pt x="1946910" y="438149"/>
                </a:lnTo>
                <a:lnTo>
                  <a:pt x="1967548" y="446404"/>
                </a:lnTo>
                <a:lnTo>
                  <a:pt x="1986915" y="454659"/>
                </a:lnTo>
                <a:lnTo>
                  <a:pt x="2005013" y="462914"/>
                </a:lnTo>
                <a:lnTo>
                  <a:pt x="2021523" y="471169"/>
                </a:lnTo>
                <a:lnTo>
                  <a:pt x="2036763" y="479424"/>
                </a:lnTo>
                <a:lnTo>
                  <a:pt x="2050415" y="487044"/>
                </a:lnTo>
                <a:lnTo>
                  <a:pt x="2062798" y="494029"/>
                </a:lnTo>
                <a:lnTo>
                  <a:pt x="2082165" y="505777"/>
                </a:lnTo>
                <a:lnTo>
                  <a:pt x="2094230" y="514349"/>
                </a:lnTo>
                <a:lnTo>
                  <a:pt x="2098675" y="516889"/>
                </a:lnTo>
                <a:lnTo>
                  <a:pt x="2098675" y="557847"/>
                </a:lnTo>
                <a:lnTo>
                  <a:pt x="2098675" y="714057"/>
                </a:lnTo>
                <a:lnTo>
                  <a:pt x="2098675" y="796925"/>
                </a:lnTo>
                <a:lnTo>
                  <a:pt x="1798638" y="715645"/>
                </a:lnTo>
                <a:lnTo>
                  <a:pt x="1660843" y="678180"/>
                </a:lnTo>
                <a:lnTo>
                  <a:pt x="1660843" y="669925"/>
                </a:lnTo>
                <a:lnTo>
                  <a:pt x="1660843" y="623252"/>
                </a:lnTo>
                <a:lnTo>
                  <a:pt x="1623060" y="595629"/>
                </a:lnTo>
                <a:lnTo>
                  <a:pt x="1618298" y="592137"/>
                </a:lnTo>
                <a:lnTo>
                  <a:pt x="1606868" y="584517"/>
                </a:lnTo>
                <a:lnTo>
                  <a:pt x="1590040" y="573722"/>
                </a:lnTo>
                <a:lnTo>
                  <a:pt x="1567180" y="559752"/>
                </a:lnTo>
                <a:lnTo>
                  <a:pt x="1553845" y="552449"/>
                </a:lnTo>
                <a:lnTo>
                  <a:pt x="1539240" y="544512"/>
                </a:lnTo>
                <a:lnTo>
                  <a:pt x="1523365" y="535939"/>
                </a:lnTo>
                <a:lnTo>
                  <a:pt x="1506538" y="527684"/>
                </a:lnTo>
                <a:lnTo>
                  <a:pt x="1488440" y="518794"/>
                </a:lnTo>
                <a:lnTo>
                  <a:pt x="1469708" y="510222"/>
                </a:lnTo>
                <a:lnTo>
                  <a:pt x="1449388" y="501649"/>
                </a:lnTo>
                <a:lnTo>
                  <a:pt x="1428750" y="493394"/>
                </a:lnTo>
                <a:lnTo>
                  <a:pt x="1444625" y="483869"/>
                </a:lnTo>
                <a:lnTo>
                  <a:pt x="1463675" y="474027"/>
                </a:lnTo>
                <a:lnTo>
                  <a:pt x="1484948" y="463549"/>
                </a:lnTo>
                <a:lnTo>
                  <a:pt x="1508125" y="452437"/>
                </a:lnTo>
                <a:lnTo>
                  <a:pt x="1520825" y="447357"/>
                </a:lnTo>
                <a:lnTo>
                  <a:pt x="1533843" y="441642"/>
                </a:lnTo>
                <a:lnTo>
                  <a:pt x="1547178" y="436562"/>
                </a:lnTo>
                <a:lnTo>
                  <a:pt x="1560830" y="431799"/>
                </a:lnTo>
                <a:lnTo>
                  <a:pt x="1575118" y="427354"/>
                </a:lnTo>
                <a:lnTo>
                  <a:pt x="1589723" y="422592"/>
                </a:lnTo>
                <a:lnTo>
                  <a:pt x="1604645" y="418147"/>
                </a:lnTo>
                <a:lnTo>
                  <a:pt x="1619885" y="414337"/>
                </a:lnTo>
                <a:close/>
                <a:moveTo>
                  <a:pt x="325863" y="414337"/>
                </a:moveTo>
                <a:lnTo>
                  <a:pt x="336663" y="437178"/>
                </a:lnTo>
                <a:lnTo>
                  <a:pt x="354134" y="470806"/>
                </a:lnTo>
                <a:lnTo>
                  <a:pt x="397017" y="554240"/>
                </a:lnTo>
                <a:lnTo>
                  <a:pt x="452923" y="662737"/>
                </a:lnTo>
                <a:lnTo>
                  <a:pt x="458323" y="655440"/>
                </a:lnTo>
                <a:lnTo>
                  <a:pt x="465629" y="644972"/>
                </a:lnTo>
                <a:lnTo>
                  <a:pt x="472935" y="631965"/>
                </a:lnTo>
                <a:lnTo>
                  <a:pt x="481829" y="617054"/>
                </a:lnTo>
                <a:lnTo>
                  <a:pt x="500888" y="582475"/>
                </a:lnTo>
                <a:lnTo>
                  <a:pt x="521217" y="544089"/>
                </a:lnTo>
                <a:lnTo>
                  <a:pt x="541229" y="505068"/>
                </a:lnTo>
                <a:lnTo>
                  <a:pt x="559653" y="468902"/>
                </a:lnTo>
                <a:lnTo>
                  <a:pt x="574900" y="438130"/>
                </a:lnTo>
                <a:lnTo>
                  <a:pt x="585700" y="416557"/>
                </a:lnTo>
                <a:lnTo>
                  <a:pt x="600947" y="420999"/>
                </a:lnTo>
                <a:lnTo>
                  <a:pt x="615877" y="425757"/>
                </a:lnTo>
                <a:lnTo>
                  <a:pt x="630489" y="430199"/>
                </a:lnTo>
                <a:lnTo>
                  <a:pt x="644783" y="434957"/>
                </a:lnTo>
                <a:lnTo>
                  <a:pt x="658442" y="440668"/>
                </a:lnTo>
                <a:lnTo>
                  <a:pt x="671783" y="445744"/>
                </a:lnTo>
                <a:lnTo>
                  <a:pt x="684489" y="451137"/>
                </a:lnTo>
                <a:lnTo>
                  <a:pt x="696877" y="456847"/>
                </a:lnTo>
                <a:lnTo>
                  <a:pt x="719431" y="467316"/>
                </a:lnTo>
                <a:lnTo>
                  <a:pt x="740078" y="477785"/>
                </a:lnTo>
                <a:lnTo>
                  <a:pt x="758184" y="487620"/>
                </a:lnTo>
                <a:lnTo>
                  <a:pt x="773113" y="496820"/>
                </a:lnTo>
                <a:lnTo>
                  <a:pt x="753419" y="505068"/>
                </a:lnTo>
                <a:lnTo>
                  <a:pt x="734042" y="513633"/>
                </a:lnTo>
                <a:lnTo>
                  <a:pt x="715936" y="521882"/>
                </a:lnTo>
                <a:lnTo>
                  <a:pt x="698783" y="530130"/>
                </a:lnTo>
                <a:lnTo>
                  <a:pt x="682901" y="538378"/>
                </a:lnTo>
                <a:lnTo>
                  <a:pt x="667654" y="546309"/>
                </a:lnTo>
                <a:lnTo>
                  <a:pt x="653677" y="554240"/>
                </a:lnTo>
                <a:lnTo>
                  <a:pt x="641289" y="561220"/>
                </a:lnTo>
                <a:lnTo>
                  <a:pt x="619689" y="574544"/>
                </a:lnTo>
                <a:lnTo>
                  <a:pt x="602853" y="585013"/>
                </a:lnTo>
                <a:lnTo>
                  <a:pt x="592371" y="592309"/>
                </a:lnTo>
                <a:lnTo>
                  <a:pt x="587924" y="595482"/>
                </a:lnTo>
                <a:lnTo>
                  <a:pt x="549806" y="623082"/>
                </a:lnTo>
                <a:lnTo>
                  <a:pt x="549806" y="669716"/>
                </a:lnTo>
                <a:lnTo>
                  <a:pt x="549806" y="717937"/>
                </a:lnTo>
                <a:lnTo>
                  <a:pt x="549806" y="901938"/>
                </a:lnTo>
                <a:lnTo>
                  <a:pt x="549806" y="1014876"/>
                </a:lnTo>
                <a:lnTo>
                  <a:pt x="546312" y="1016462"/>
                </a:lnTo>
                <a:lnTo>
                  <a:pt x="96838" y="1193800"/>
                </a:lnTo>
                <a:lnTo>
                  <a:pt x="96838" y="713813"/>
                </a:lnTo>
                <a:lnTo>
                  <a:pt x="96838" y="557730"/>
                </a:lnTo>
                <a:lnTo>
                  <a:pt x="96838" y="516806"/>
                </a:lnTo>
                <a:lnTo>
                  <a:pt x="101285" y="514268"/>
                </a:lnTo>
                <a:lnTo>
                  <a:pt x="113991" y="505385"/>
                </a:lnTo>
                <a:lnTo>
                  <a:pt x="123521" y="499675"/>
                </a:lnTo>
                <a:lnTo>
                  <a:pt x="134321" y="493013"/>
                </a:lnTo>
                <a:lnTo>
                  <a:pt x="147344" y="485716"/>
                </a:lnTo>
                <a:lnTo>
                  <a:pt x="161639" y="477468"/>
                </a:lnTo>
                <a:lnTo>
                  <a:pt x="177839" y="469220"/>
                </a:lnTo>
                <a:lnTo>
                  <a:pt x="194992" y="460971"/>
                </a:lnTo>
                <a:lnTo>
                  <a:pt x="214051" y="452406"/>
                </a:lnTo>
                <a:lnTo>
                  <a:pt x="234063" y="444157"/>
                </a:lnTo>
                <a:lnTo>
                  <a:pt x="255345" y="435909"/>
                </a:lnTo>
                <a:lnTo>
                  <a:pt x="277581" y="427978"/>
                </a:lnTo>
                <a:lnTo>
                  <a:pt x="301404" y="420999"/>
                </a:lnTo>
                <a:lnTo>
                  <a:pt x="313157" y="417509"/>
                </a:lnTo>
                <a:lnTo>
                  <a:pt x="325863" y="414337"/>
                </a:lnTo>
                <a:close/>
                <a:moveTo>
                  <a:pt x="1105540" y="106362"/>
                </a:moveTo>
                <a:lnTo>
                  <a:pt x="1113783" y="106679"/>
                </a:lnTo>
                <a:lnTo>
                  <a:pt x="1122026" y="107315"/>
                </a:lnTo>
                <a:lnTo>
                  <a:pt x="1130269" y="108268"/>
                </a:lnTo>
                <a:lnTo>
                  <a:pt x="1138512" y="109857"/>
                </a:lnTo>
                <a:lnTo>
                  <a:pt x="1146755" y="111445"/>
                </a:lnTo>
                <a:lnTo>
                  <a:pt x="1154998" y="113987"/>
                </a:lnTo>
                <a:lnTo>
                  <a:pt x="1162924" y="116528"/>
                </a:lnTo>
                <a:lnTo>
                  <a:pt x="1170850" y="119705"/>
                </a:lnTo>
                <a:lnTo>
                  <a:pt x="1178775" y="122882"/>
                </a:lnTo>
                <a:lnTo>
                  <a:pt x="1186067" y="127013"/>
                </a:lnTo>
                <a:lnTo>
                  <a:pt x="1193993" y="131143"/>
                </a:lnTo>
                <a:lnTo>
                  <a:pt x="1200968" y="135908"/>
                </a:lnTo>
                <a:lnTo>
                  <a:pt x="1208260" y="140992"/>
                </a:lnTo>
                <a:lnTo>
                  <a:pt x="1215235" y="146710"/>
                </a:lnTo>
                <a:lnTo>
                  <a:pt x="1221892" y="152429"/>
                </a:lnTo>
                <a:lnTo>
                  <a:pt x="1228550" y="158783"/>
                </a:lnTo>
                <a:lnTo>
                  <a:pt x="1234574" y="165455"/>
                </a:lnTo>
                <a:lnTo>
                  <a:pt x="1240915" y="172444"/>
                </a:lnTo>
                <a:lnTo>
                  <a:pt x="1246304" y="180069"/>
                </a:lnTo>
                <a:lnTo>
                  <a:pt x="1251694" y="188012"/>
                </a:lnTo>
                <a:lnTo>
                  <a:pt x="1256449" y="196272"/>
                </a:lnTo>
                <a:lnTo>
                  <a:pt x="1261205" y="204850"/>
                </a:lnTo>
                <a:lnTo>
                  <a:pt x="1265643" y="214064"/>
                </a:lnTo>
                <a:lnTo>
                  <a:pt x="1269448" y="223277"/>
                </a:lnTo>
                <a:lnTo>
                  <a:pt x="1272935" y="233126"/>
                </a:lnTo>
                <a:lnTo>
                  <a:pt x="1276105" y="243610"/>
                </a:lnTo>
                <a:lnTo>
                  <a:pt x="1278959" y="254094"/>
                </a:lnTo>
                <a:lnTo>
                  <a:pt x="1281178" y="265214"/>
                </a:lnTo>
                <a:lnTo>
                  <a:pt x="1282763" y="276651"/>
                </a:lnTo>
                <a:lnTo>
                  <a:pt x="1284031" y="288407"/>
                </a:lnTo>
                <a:lnTo>
                  <a:pt x="1284665" y="300479"/>
                </a:lnTo>
                <a:lnTo>
                  <a:pt x="1285300" y="313187"/>
                </a:lnTo>
                <a:lnTo>
                  <a:pt x="1285300" y="317635"/>
                </a:lnTo>
                <a:lnTo>
                  <a:pt x="1284665" y="321765"/>
                </a:lnTo>
                <a:lnTo>
                  <a:pt x="1285300" y="321765"/>
                </a:lnTo>
                <a:lnTo>
                  <a:pt x="1289421" y="322401"/>
                </a:lnTo>
                <a:lnTo>
                  <a:pt x="1293542" y="323036"/>
                </a:lnTo>
                <a:lnTo>
                  <a:pt x="1297347" y="324307"/>
                </a:lnTo>
                <a:lnTo>
                  <a:pt x="1300834" y="326213"/>
                </a:lnTo>
                <a:lnTo>
                  <a:pt x="1304322" y="328437"/>
                </a:lnTo>
                <a:lnTo>
                  <a:pt x="1307492" y="331297"/>
                </a:lnTo>
                <a:lnTo>
                  <a:pt x="1310662" y="334474"/>
                </a:lnTo>
                <a:lnTo>
                  <a:pt x="1313833" y="337651"/>
                </a:lnTo>
                <a:lnTo>
                  <a:pt x="1316369" y="341463"/>
                </a:lnTo>
                <a:lnTo>
                  <a:pt x="1318588" y="345911"/>
                </a:lnTo>
                <a:lnTo>
                  <a:pt x="1320491" y="350359"/>
                </a:lnTo>
                <a:lnTo>
                  <a:pt x="1322393" y="354807"/>
                </a:lnTo>
                <a:lnTo>
                  <a:pt x="1323661" y="359572"/>
                </a:lnTo>
                <a:lnTo>
                  <a:pt x="1324929" y="365291"/>
                </a:lnTo>
                <a:lnTo>
                  <a:pt x="1325246" y="370374"/>
                </a:lnTo>
                <a:lnTo>
                  <a:pt x="1325563" y="375775"/>
                </a:lnTo>
                <a:lnTo>
                  <a:pt x="1325246" y="381176"/>
                </a:lnTo>
                <a:lnTo>
                  <a:pt x="1323661" y="386895"/>
                </a:lnTo>
                <a:lnTo>
                  <a:pt x="1321759" y="391978"/>
                </a:lnTo>
                <a:lnTo>
                  <a:pt x="1319222" y="396744"/>
                </a:lnTo>
                <a:lnTo>
                  <a:pt x="1316369" y="401509"/>
                </a:lnTo>
                <a:lnTo>
                  <a:pt x="1312248" y="406275"/>
                </a:lnTo>
                <a:lnTo>
                  <a:pt x="1308443" y="410087"/>
                </a:lnTo>
                <a:lnTo>
                  <a:pt x="1303688" y="413900"/>
                </a:lnTo>
                <a:lnTo>
                  <a:pt x="1298932" y="417712"/>
                </a:lnTo>
                <a:lnTo>
                  <a:pt x="1294177" y="420572"/>
                </a:lnTo>
                <a:lnTo>
                  <a:pt x="1289104" y="423431"/>
                </a:lnTo>
                <a:lnTo>
                  <a:pt x="1284031" y="425337"/>
                </a:lnTo>
                <a:lnTo>
                  <a:pt x="1278959" y="427561"/>
                </a:lnTo>
                <a:lnTo>
                  <a:pt x="1274203" y="428514"/>
                </a:lnTo>
                <a:lnTo>
                  <a:pt x="1269448" y="429467"/>
                </a:lnTo>
                <a:lnTo>
                  <a:pt x="1265009" y="429785"/>
                </a:lnTo>
                <a:lnTo>
                  <a:pt x="1264692" y="429785"/>
                </a:lnTo>
                <a:lnTo>
                  <a:pt x="1258351" y="446623"/>
                </a:lnTo>
                <a:lnTo>
                  <a:pt x="1251377" y="463779"/>
                </a:lnTo>
                <a:lnTo>
                  <a:pt x="1243768" y="479665"/>
                </a:lnTo>
                <a:lnTo>
                  <a:pt x="1235525" y="495232"/>
                </a:lnTo>
                <a:lnTo>
                  <a:pt x="1228867" y="506034"/>
                </a:lnTo>
                <a:lnTo>
                  <a:pt x="1222209" y="516836"/>
                </a:lnTo>
                <a:lnTo>
                  <a:pt x="1215235" y="527003"/>
                </a:lnTo>
                <a:lnTo>
                  <a:pt x="1207626" y="536852"/>
                </a:lnTo>
                <a:lnTo>
                  <a:pt x="1200017" y="546065"/>
                </a:lnTo>
                <a:lnTo>
                  <a:pt x="1192408" y="554643"/>
                </a:lnTo>
                <a:lnTo>
                  <a:pt x="1184165" y="562586"/>
                </a:lnTo>
                <a:lnTo>
                  <a:pt x="1176239" y="569575"/>
                </a:lnTo>
                <a:lnTo>
                  <a:pt x="1167679" y="576247"/>
                </a:lnTo>
                <a:lnTo>
                  <a:pt x="1159119" y="582283"/>
                </a:lnTo>
                <a:lnTo>
                  <a:pt x="1150242" y="587367"/>
                </a:lnTo>
                <a:lnTo>
                  <a:pt x="1141365" y="591814"/>
                </a:lnTo>
                <a:lnTo>
                  <a:pt x="1132171" y="595309"/>
                </a:lnTo>
                <a:lnTo>
                  <a:pt x="1123611" y="597533"/>
                </a:lnTo>
                <a:lnTo>
                  <a:pt x="1118856" y="598804"/>
                </a:lnTo>
                <a:lnTo>
                  <a:pt x="1114734" y="599122"/>
                </a:lnTo>
                <a:lnTo>
                  <a:pt x="1110296" y="599439"/>
                </a:lnTo>
                <a:lnTo>
                  <a:pt x="1105540" y="600075"/>
                </a:lnTo>
                <a:lnTo>
                  <a:pt x="1099199" y="599439"/>
                </a:lnTo>
                <a:lnTo>
                  <a:pt x="1092859" y="598804"/>
                </a:lnTo>
                <a:lnTo>
                  <a:pt x="1087152" y="597533"/>
                </a:lnTo>
                <a:lnTo>
                  <a:pt x="1080811" y="595627"/>
                </a:lnTo>
                <a:lnTo>
                  <a:pt x="1074471" y="593721"/>
                </a:lnTo>
                <a:lnTo>
                  <a:pt x="1068130" y="590861"/>
                </a:lnTo>
                <a:lnTo>
                  <a:pt x="1062423" y="587684"/>
                </a:lnTo>
                <a:lnTo>
                  <a:pt x="1056083" y="584507"/>
                </a:lnTo>
                <a:lnTo>
                  <a:pt x="1050693" y="581012"/>
                </a:lnTo>
                <a:lnTo>
                  <a:pt x="1044986" y="577200"/>
                </a:lnTo>
                <a:lnTo>
                  <a:pt x="1039597" y="573070"/>
                </a:lnTo>
                <a:lnTo>
                  <a:pt x="1034524" y="568940"/>
                </a:lnTo>
                <a:lnTo>
                  <a:pt x="1028818" y="564174"/>
                </a:lnTo>
                <a:lnTo>
                  <a:pt x="1023745" y="559409"/>
                </a:lnTo>
                <a:lnTo>
                  <a:pt x="1018672" y="554008"/>
                </a:lnTo>
                <a:lnTo>
                  <a:pt x="1013600" y="548289"/>
                </a:lnTo>
                <a:lnTo>
                  <a:pt x="1003455" y="536534"/>
                </a:lnTo>
                <a:lnTo>
                  <a:pt x="993944" y="523826"/>
                </a:lnTo>
                <a:lnTo>
                  <a:pt x="985067" y="510482"/>
                </a:lnTo>
                <a:lnTo>
                  <a:pt x="976190" y="495868"/>
                </a:lnTo>
                <a:lnTo>
                  <a:pt x="967630" y="480300"/>
                </a:lnTo>
                <a:lnTo>
                  <a:pt x="959704" y="463779"/>
                </a:lnTo>
                <a:lnTo>
                  <a:pt x="952729" y="446623"/>
                </a:lnTo>
                <a:lnTo>
                  <a:pt x="946388" y="429150"/>
                </a:lnTo>
                <a:lnTo>
                  <a:pt x="941950" y="428197"/>
                </a:lnTo>
                <a:lnTo>
                  <a:pt x="937194" y="426926"/>
                </a:lnTo>
                <a:lnTo>
                  <a:pt x="933073" y="425020"/>
                </a:lnTo>
                <a:lnTo>
                  <a:pt x="928317" y="423113"/>
                </a:lnTo>
                <a:lnTo>
                  <a:pt x="923562" y="420572"/>
                </a:lnTo>
                <a:lnTo>
                  <a:pt x="919123" y="418030"/>
                </a:lnTo>
                <a:lnTo>
                  <a:pt x="915002" y="414853"/>
                </a:lnTo>
                <a:lnTo>
                  <a:pt x="910563" y="411358"/>
                </a:lnTo>
                <a:lnTo>
                  <a:pt x="906759" y="407863"/>
                </a:lnTo>
                <a:lnTo>
                  <a:pt x="903271" y="403733"/>
                </a:lnTo>
                <a:lnTo>
                  <a:pt x="900101" y="399603"/>
                </a:lnTo>
                <a:lnTo>
                  <a:pt x="897248" y="395155"/>
                </a:lnTo>
                <a:lnTo>
                  <a:pt x="895345" y="390707"/>
                </a:lnTo>
                <a:lnTo>
                  <a:pt x="893443" y="385624"/>
                </a:lnTo>
                <a:lnTo>
                  <a:pt x="892492" y="380859"/>
                </a:lnTo>
                <a:lnTo>
                  <a:pt x="892175" y="375775"/>
                </a:lnTo>
                <a:lnTo>
                  <a:pt x="892175" y="370692"/>
                </a:lnTo>
                <a:lnTo>
                  <a:pt x="892492" y="365926"/>
                </a:lnTo>
                <a:lnTo>
                  <a:pt x="893760" y="361161"/>
                </a:lnTo>
                <a:lnTo>
                  <a:pt x="894394" y="356395"/>
                </a:lnTo>
                <a:lnTo>
                  <a:pt x="895980" y="352265"/>
                </a:lnTo>
                <a:lnTo>
                  <a:pt x="897565" y="348135"/>
                </a:lnTo>
                <a:lnTo>
                  <a:pt x="899467" y="344323"/>
                </a:lnTo>
                <a:lnTo>
                  <a:pt x="902003" y="340828"/>
                </a:lnTo>
                <a:lnTo>
                  <a:pt x="904222" y="337333"/>
                </a:lnTo>
                <a:lnTo>
                  <a:pt x="907076" y="334156"/>
                </a:lnTo>
                <a:lnTo>
                  <a:pt x="909929" y="331297"/>
                </a:lnTo>
                <a:lnTo>
                  <a:pt x="913099" y="329073"/>
                </a:lnTo>
                <a:lnTo>
                  <a:pt x="916270" y="326531"/>
                </a:lnTo>
                <a:lnTo>
                  <a:pt x="919123" y="324943"/>
                </a:lnTo>
                <a:lnTo>
                  <a:pt x="922928" y="323672"/>
                </a:lnTo>
                <a:lnTo>
                  <a:pt x="926415" y="322719"/>
                </a:lnTo>
                <a:lnTo>
                  <a:pt x="926098" y="313187"/>
                </a:lnTo>
                <a:lnTo>
                  <a:pt x="926415" y="300479"/>
                </a:lnTo>
                <a:lnTo>
                  <a:pt x="927049" y="288407"/>
                </a:lnTo>
                <a:lnTo>
                  <a:pt x="928317" y="276651"/>
                </a:lnTo>
                <a:lnTo>
                  <a:pt x="930219" y="265214"/>
                </a:lnTo>
                <a:lnTo>
                  <a:pt x="932122" y="254094"/>
                </a:lnTo>
                <a:lnTo>
                  <a:pt x="934975" y="243610"/>
                </a:lnTo>
                <a:lnTo>
                  <a:pt x="938145" y="233126"/>
                </a:lnTo>
                <a:lnTo>
                  <a:pt x="941633" y="223277"/>
                </a:lnTo>
                <a:lnTo>
                  <a:pt x="945754" y="214064"/>
                </a:lnTo>
                <a:lnTo>
                  <a:pt x="949876" y="204850"/>
                </a:lnTo>
                <a:lnTo>
                  <a:pt x="954631" y="196272"/>
                </a:lnTo>
                <a:lnTo>
                  <a:pt x="959704" y="188012"/>
                </a:lnTo>
                <a:lnTo>
                  <a:pt x="964776" y="180069"/>
                </a:lnTo>
                <a:lnTo>
                  <a:pt x="970800" y="172444"/>
                </a:lnTo>
                <a:lnTo>
                  <a:pt x="976507" y="165455"/>
                </a:lnTo>
                <a:lnTo>
                  <a:pt x="982847" y="158783"/>
                </a:lnTo>
                <a:lnTo>
                  <a:pt x="989188" y="152429"/>
                </a:lnTo>
                <a:lnTo>
                  <a:pt x="995846" y="146710"/>
                </a:lnTo>
                <a:lnTo>
                  <a:pt x="1003138" y="140992"/>
                </a:lnTo>
                <a:lnTo>
                  <a:pt x="1010112" y="135908"/>
                </a:lnTo>
                <a:lnTo>
                  <a:pt x="1017404" y="131143"/>
                </a:lnTo>
                <a:lnTo>
                  <a:pt x="1025013" y="127013"/>
                </a:lnTo>
                <a:lnTo>
                  <a:pt x="1032622" y="122882"/>
                </a:lnTo>
                <a:lnTo>
                  <a:pt x="1040231" y="119705"/>
                </a:lnTo>
                <a:lnTo>
                  <a:pt x="1048157" y="116528"/>
                </a:lnTo>
                <a:lnTo>
                  <a:pt x="1056400" y="113987"/>
                </a:lnTo>
                <a:lnTo>
                  <a:pt x="1064326" y="111445"/>
                </a:lnTo>
                <a:lnTo>
                  <a:pt x="1072568" y="109857"/>
                </a:lnTo>
                <a:lnTo>
                  <a:pt x="1080811" y="108268"/>
                </a:lnTo>
                <a:lnTo>
                  <a:pt x="1089054" y="107315"/>
                </a:lnTo>
                <a:lnTo>
                  <a:pt x="1097297" y="106679"/>
                </a:lnTo>
                <a:lnTo>
                  <a:pt x="1105540" y="106362"/>
                </a:lnTo>
                <a:close/>
                <a:moveTo>
                  <a:pt x="1743393" y="0"/>
                </a:moveTo>
                <a:lnTo>
                  <a:pt x="1750378" y="317"/>
                </a:lnTo>
                <a:lnTo>
                  <a:pt x="1757680" y="950"/>
                </a:lnTo>
                <a:lnTo>
                  <a:pt x="1764665" y="1584"/>
                </a:lnTo>
                <a:lnTo>
                  <a:pt x="1771650" y="2851"/>
                </a:lnTo>
                <a:lnTo>
                  <a:pt x="1778318" y="4435"/>
                </a:lnTo>
                <a:lnTo>
                  <a:pt x="1785620" y="6335"/>
                </a:lnTo>
                <a:lnTo>
                  <a:pt x="1792288" y="8553"/>
                </a:lnTo>
                <a:lnTo>
                  <a:pt x="1798955" y="11404"/>
                </a:lnTo>
                <a:lnTo>
                  <a:pt x="1805623" y="14255"/>
                </a:lnTo>
                <a:lnTo>
                  <a:pt x="1812290" y="17423"/>
                </a:lnTo>
                <a:lnTo>
                  <a:pt x="1818640" y="21224"/>
                </a:lnTo>
                <a:lnTo>
                  <a:pt x="1824990" y="25342"/>
                </a:lnTo>
                <a:lnTo>
                  <a:pt x="1830705" y="29460"/>
                </a:lnTo>
                <a:lnTo>
                  <a:pt x="1836738" y="34212"/>
                </a:lnTo>
                <a:lnTo>
                  <a:pt x="1842770" y="38963"/>
                </a:lnTo>
                <a:lnTo>
                  <a:pt x="1848168" y="44349"/>
                </a:lnTo>
                <a:lnTo>
                  <a:pt x="1853248" y="50051"/>
                </a:lnTo>
                <a:lnTo>
                  <a:pt x="1858328" y="56069"/>
                </a:lnTo>
                <a:lnTo>
                  <a:pt x="1863090" y="62405"/>
                </a:lnTo>
                <a:lnTo>
                  <a:pt x="1867853" y="69057"/>
                </a:lnTo>
                <a:lnTo>
                  <a:pt x="1871663" y="76343"/>
                </a:lnTo>
                <a:lnTo>
                  <a:pt x="1875790" y="83312"/>
                </a:lnTo>
                <a:lnTo>
                  <a:pt x="1879600" y="91232"/>
                </a:lnTo>
                <a:lnTo>
                  <a:pt x="1882775" y="99151"/>
                </a:lnTo>
                <a:lnTo>
                  <a:pt x="1885950" y="107387"/>
                </a:lnTo>
                <a:lnTo>
                  <a:pt x="1888808" y="115940"/>
                </a:lnTo>
                <a:lnTo>
                  <a:pt x="1890713" y="124810"/>
                </a:lnTo>
                <a:lnTo>
                  <a:pt x="1892618" y="134313"/>
                </a:lnTo>
                <a:lnTo>
                  <a:pt x="1894205" y="144134"/>
                </a:lnTo>
                <a:lnTo>
                  <a:pt x="1895475" y="153954"/>
                </a:lnTo>
                <a:lnTo>
                  <a:pt x="1895793" y="164091"/>
                </a:lnTo>
                <a:lnTo>
                  <a:pt x="1896110" y="174861"/>
                </a:lnTo>
                <a:lnTo>
                  <a:pt x="1895793" y="182780"/>
                </a:lnTo>
                <a:lnTo>
                  <a:pt x="1896110" y="182147"/>
                </a:lnTo>
                <a:lnTo>
                  <a:pt x="1899603" y="182780"/>
                </a:lnTo>
                <a:lnTo>
                  <a:pt x="1903095" y="183414"/>
                </a:lnTo>
                <a:lnTo>
                  <a:pt x="1906270" y="184681"/>
                </a:lnTo>
                <a:lnTo>
                  <a:pt x="1909445" y="186265"/>
                </a:lnTo>
                <a:lnTo>
                  <a:pt x="1912620" y="187849"/>
                </a:lnTo>
                <a:lnTo>
                  <a:pt x="1915478" y="190066"/>
                </a:lnTo>
                <a:lnTo>
                  <a:pt x="1917700" y="192917"/>
                </a:lnTo>
                <a:lnTo>
                  <a:pt x="1920558" y="195768"/>
                </a:lnTo>
                <a:lnTo>
                  <a:pt x="1922463" y="199253"/>
                </a:lnTo>
                <a:lnTo>
                  <a:pt x="1924368" y="202737"/>
                </a:lnTo>
                <a:lnTo>
                  <a:pt x="1926590" y="206222"/>
                </a:lnTo>
                <a:lnTo>
                  <a:pt x="1927543" y="210023"/>
                </a:lnTo>
                <a:lnTo>
                  <a:pt x="1928813" y="214458"/>
                </a:lnTo>
                <a:lnTo>
                  <a:pt x="1929765" y="218893"/>
                </a:lnTo>
                <a:lnTo>
                  <a:pt x="1930400" y="223645"/>
                </a:lnTo>
                <a:lnTo>
                  <a:pt x="1930400" y="228080"/>
                </a:lnTo>
                <a:lnTo>
                  <a:pt x="1930083" y="232831"/>
                </a:lnTo>
                <a:lnTo>
                  <a:pt x="1928813" y="237266"/>
                </a:lnTo>
                <a:lnTo>
                  <a:pt x="1927225" y="241701"/>
                </a:lnTo>
                <a:lnTo>
                  <a:pt x="1925320" y="245819"/>
                </a:lnTo>
                <a:lnTo>
                  <a:pt x="1922463" y="249937"/>
                </a:lnTo>
                <a:lnTo>
                  <a:pt x="1919288" y="253739"/>
                </a:lnTo>
                <a:lnTo>
                  <a:pt x="1915795" y="257223"/>
                </a:lnTo>
                <a:lnTo>
                  <a:pt x="1911985" y="260391"/>
                </a:lnTo>
                <a:lnTo>
                  <a:pt x="1907858" y="263242"/>
                </a:lnTo>
                <a:lnTo>
                  <a:pt x="1903730" y="265776"/>
                </a:lnTo>
                <a:lnTo>
                  <a:pt x="1899285" y="268310"/>
                </a:lnTo>
                <a:lnTo>
                  <a:pt x="1895475" y="270211"/>
                </a:lnTo>
                <a:lnTo>
                  <a:pt x="1891030" y="271795"/>
                </a:lnTo>
                <a:lnTo>
                  <a:pt x="1886585" y="272745"/>
                </a:lnTo>
                <a:lnTo>
                  <a:pt x="1882775" y="273379"/>
                </a:lnTo>
                <a:lnTo>
                  <a:pt x="1879283" y="273696"/>
                </a:lnTo>
                <a:lnTo>
                  <a:pt x="1878965" y="273696"/>
                </a:lnTo>
                <a:lnTo>
                  <a:pt x="1873250" y="288267"/>
                </a:lnTo>
                <a:lnTo>
                  <a:pt x="1867535" y="302522"/>
                </a:lnTo>
                <a:lnTo>
                  <a:pt x="1860868" y="316144"/>
                </a:lnTo>
                <a:lnTo>
                  <a:pt x="1853565" y="329449"/>
                </a:lnTo>
                <a:lnTo>
                  <a:pt x="1846263" y="342120"/>
                </a:lnTo>
                <a:lnTo>
                  <a:pt x="1838325" y="353840"/>
                </a:lnTo>
                <a:lnTo>
                  <a:pt x="1829753" y="364928"/>
                </a:lnTo>
                <a:lnTo>
                  <a:pt x="1820863" y="375065"/>
                </a:lnTo>
                <a:lnTo>
                  <a:pt x="1811973" y="384568"/>
                </a:lnTo>
                <a:lnTo>
                  <a:pt x="1802448" y="392804"/>
                </a:lnTo>
                <a:lnTo>
                  <a:pt x="1797685" y="396605"/>
                </a:lnTo>
                <a:lnTo>
                  <a:pt x="1792923" y="399773"/>
                </a:lnTo>
                <a:lnTo>
                  <a:pt x="1788160" y="403258"/>
                </a:lnTo>
                <a:lnTo>
                  <a:pt x="1783715" y="406109"/>
                </a:lnTo>
                <a:lnTo>
                  <a:pt x="1778318" y="408960"/>
                </a:lnTo>
                <a:lnTo>
                  <a:pt x="1773238" y="410860"/>
                </a:lnTo>
                <a:lnTo>
                  <a:pt x="1768475" y="412761"/>
                </a:lnTo>
                <a:lnTo>
                  <a:pt x="1763395" y="414345"/>
                </a:lnTo>
                <a:lnTo>
                  <a:pt x="1758315" y="415929"/>
                </a:lnTo>
                <a:lnTo>
                  <a:pt x="1753553" y="416879"/>
                </a:lnTo>
                <a:lnTo>
                  <a:pt x="1748473" y="417196"/>
                </a:lnTo>
                <a:lnTo>
                  <a:pt x="1743393" y="417513"/>
                </a:lnTo>
                <a:lnTo>
                  <a:pt x="1738630" y="417196"/>
                </a:lnTo>
                <a:lnTo>
                  <a:pt x="1733550" y="416879"/>
                </a:lnTo>
                <a:lnTo>
                  <a:pt x="1728470" y="415929"/>
                </a:lnTo>
                <a:lnTo>
                  <a:pt x="1723390" y="414345"/>
                </a:lnTo>
                <a:lnTo>
                  <a:pt x="1718628" y="412761"/>
                </a:lnTo>
                <a:lnTo>
                  <a:pt x="1713548" y="410860"/>
                </a:lnTo>
                <a:lnTo>
                  <a:pt x="1708468" y="408643"/>
                </a:lnTo>
                <a:lnTo>
                  <a:pt x="1703705" y="406109"/>
                </a:lnTo>
                <a:lnTo>
                  <a:pt x="1698625" y="402941"/>
                </a:lnTo>
                <a:lnTo>
                  <a:pt x="1693863" y="399773"/>
                </a:lnTo>
                <a:lnTo>
                  <a:pt x="1689100" y="396289"/>
                </a:lnTo>
                <a:lnTo>
                  <a:pt x="1684338" y="392804"/>
                </a:lnTo>
                <a:lnTo>
                  <a:pt x="1679575" y="388369"/>
                </a:lnTo>
                <a:lnTo>
                  <a:pt x="1674813" y="384568"/>
                </a:lnTo>
                <a:lnTo>
                  <a:pt x="1665923" y="375065"/>
                </a:lnTo>
                <a:lnTo>
                  <a:pt x="1657350" y="364928"/>
                </a:lnTo>
                <a:lnTo>
                  <a:pt x="1649095" y="353524"/>
                </a:lnTo>
                <a:lnTo>
                  <a:pt x="1640840" y="341803"/>
                </a:lnTo>
                <a:lnTo>
                  <a:pt x="1633220" y="329132"/>
                </a:lnTo>
                <a:lnTo>
                  <a:pt x="1626235" y="315827"/>
                </a:lnTo>
                <a:lnTo>
                  <a:pt x="1619568" y="302206"/>
                </a:lnTo>
                <a:lnTo>
                  <a:pt x="1613535" y="287951"/>
                </a:lnTo>
                <a:lnTo>
                  <a:pt x="1608138" y="273062"/>
                </a:lnTo>
                <a:lnTo>
                  <a:pt x="1604645" y="272112"/>
                </a:lnTo>
                <a:lnTo>
                  <a:pt x="1600518" y="271161"/>
                </a:lnTo>
                <a:lnTo>
                  <a:pt x="1596708" y="269894"/>
                </a:lnTo>
                <a:lnTo>
                  <a:pt x="1592580" y="267994"/>
                </a:lnTo>
                <a:lnTo>
                  <a:pt x="1589088" y="265776"/>
                </a:lnTo>
                <a:lnTo>
                  <a:pt x="1585278" y="263559"/>
                </a:lnTo>
                <a:lnTo>
                  <a:pt x="1581150" y="260708"/>
                </a:lnTo>
                <a:lnTo>
                  <a:pt x="1577658" y="258174"/>
                </a:lnTo>
                <a:lnTo>
                  <a:pt x="1574483" y="255006"/>
                </a:lnTo>
                <a:lnTo>
                  <a:pt x="1571308" y="251838"/>
                </a:lnTo>
                <a:lnTo>
                  <a:pt x="1568768" y="248353"/>
                </a:lnTo>
                <a:lnTo>
                  <a:pt x="1566228" y="244235"/>
                </a:lnTo>
                <a:lnTo>
                  <a:pt x="1564640" y="240434"/>
                </a:lnTo>
                <a:lnTo>
                  <a:pt x="1563053" y="236633"/>
                </a:lnTo>
                <a:lnTo>
                  <a:pt x="1562418" y="232515"/>
                </a:lnTo>
                <a:lnTo>
                  <a:pt x="1562100" y="228080"/>
                </a:lnTo>
                <a:lnTo>
                  <a:pt x="1562100" y="223962"/>
                </a:lnTo>
                <a:lnTo>
                  <a:pt x="1562418" y="219527"/>
                </a:lnTo>
                <a:lnTo>
                  <a:pt x="1563053" y="215725"/>
                </a:lnTo>
                <a:lnTo>
                  <a:pt x="1564323" y="211607"/>
                </a:lnTo>
                <a:lnTo>
                  <a:pt x="1565593" y="208123"/>
                </a:lnTo>
                <a:lnTo>
                  <a:pt x="1567180" y="204638"/>
                </a:lnTo>
                <a:lnTo>
                  <a:pt x="1568768" y="201470"/>
                </a:lnTo>
                <a:lnTo>
                  <a:pt x="1570673" y="198303"/>
                </a:lnTo>
                <a:lnTo>
                  <a:pt x="1572578" y="195135"/>
                </a:lnTo>
                <a:lnTo>
                  <a:pt x="1574483" y="192917"/>
                </a:lnTo>
                <a:lnTo>
                  <a:pt x="1577340" y="190383"/>
                </a:lnTo>
                <a:lnTo>
                  <a:pt x="1579563" y="188166"/>
                </a:lnTo>
                <a:lnTo>
                  <a:pt x="1582420" y="186582"/>
                </a:lnTo>
                <a:lnTo>
                  <a:pt x="1585278" y="184998"/>
                </a:lnTo>
                <a:lnTo>
                  <a:pt x="1588453" y="183731"/>
                </a:lnTo>
                <a:lnTo>
                  <a:pt x="1590993" y="183097"/>
                </a:lnTo>
                <a:lnTo>
                  <a:pt x="1590993" y="174861"/>
                </a:lnTo>
                <a:lnTo>
                  <a:pt x="1590993" y="164091"/>
                </a:lnTo>
                <a:lnTo>
                  <a:pt x="1591945" y="153954"/>
                </a:lnTo>
                <a:lnTo>
                  <a:pt x="1593215" y="144134"/>
                </a:lnTo>
                <a:lnTo>
                  <a:pt x="1594168" y="134313"/>
                </a:lnTo>
                <a:lnTo>
                  <a:pt x="1596073" y="124810"/>
                </a:lnTo>
                <a:lnTo>
                  <a:pt x="1598613" y="115940"/>
                </a:lnTo>
                <a:lnTo>
                  <a:pt x="1601470" y="107387"/>
                </a:lnTo>
                <a:lnTo>
                  <a:pt x="1604010" y="99151"/>
                </a:lnTo>
                <a:lnTo>
                  <a:pt x="1607503" y="91232"/>
                </a:lnTo>
                <a:lnTo>
                  <a:pt x="1611313" y="83312"/>
                </a:lnTo>
                <a:lnTo>
                  <a:pt x="1615123" y="76343"/>
                </a:lnTo>
                <a:lnTo>
                  <a:pt x="1619568" y="69057"/>
                </a:lnTo>
                <a:lnTo>
                  <a:pt x="1624013" y="62405"/>
                </a:lnTo>
                <a:lnTo>
                  <a:pt x="1628775" y="56069"/>
                </a:lnTo>
                <a:lnTo>
                  <a:pt x="1633855" y="50051"/>
                </a:lnTo>
                <a:lnTo>
                  <a:pt x="1639253" y="44349"/>
                </a:lnTo>
                <a:lnTo>
                  <a:pt x="1644650" y="38963"/>
                </a:lnTo>
                <a:lnTo>
                  <a:pt x="1650683" y="34212"/>
                </a:lnTo>
                <a:lnTo>
                  <a:pt x="1656398" y="29460"/>
                </a:lnTo>
                <a:lnTo>
                  <a:pt x="1662430" y="25342"/>
                </a:lnTo>
                <a:lnTo>
                  <a:pt x="1668780" y="21224"/>
                </a:lnTo>
                <a:lnTo>
                  <a:pt x="1674813" y="17423"/>
                </a:lnTo>
                <a:lnTo>
                  <a:pt x="1681480" y="14255"/>
                </a:lnTo>
                <a:lnTo>
                  <a:pt x="1687830" y="11404"/>
                </a:lnTo>
                <a:lnTo>
                  <a:pt x="1695133" y="8553"/>
                </a:lnTo>
                <a:lnTo>
                  <a:pt x="1701800" y="6335"/>
                </a:lnTo>
                <a:lnTo>
                  <a:pt x="1708468" y="4435"/>
                </a:lnTo>
                <a:lnTo>
                  <a:pt x="1715453" y="2851"/>
                </a:lnTo>
                <a:lnTo>
                  <a:pt x="1722438" y="1584"/>
                </a:lnTo>
                <a:lnTo>
                  <a:pt x="1729740" y="950"/>
                </a:lnTo>
                <a:lnTo>
                  <a:pt x="1736408" y="317"/>
                </a:lnTo>
                <a:lnTo>
                  <a:pt x="1743393" y="0"/>
                </a:lnTo>
                <a:close/>
                <a:moveTo>
                  <a:pt x="451006" y="0"/>
                </a:moveTo>
                <a:lnTo>
                  <a:pt x="458315" y="317"/>
                </a:lnTo>
                <a:lnTo>
                  <a:pt x="465306" y="950"/>
                </a:lnTo>
                <a:lnTo>
                  <a:pt x="472297" y="1584"/>
                </a:lnTo>
                <a:lnTo>
                  <a:pt x="479606" y="2851"/>
                </a:lnTo>
                <a:lnTo>
                  <a:pt x="486279" y="4435"/>
                </a:lnTo>
                <a:lnTo>
                  <a:pt x="493270" y="6335"/>
                </a:lnTo>
                <a:lnTo>
                  <a:pt x="499944" y="8553"/>
                </a:lnTo>
                <a:lnTo>
                  <a:pt x="506617" y="11404"/>
                </a:lnTo>
                <a:lnTo>
                  <a:pt x="513290" y="14255"/>
                </a:lnTo>
                <a:lnTo>
                  <a:pt x="519963" y="17423"/>
                </a:lnTo>
                <a:lnTo>
                  <a:pt x="526319" y="21224"/>
                </a:lnTo>
                <a:lnTo>
                  <a:pt x="532674" y="25342"/>
                </a:lnTo>
                <a:lnTo>
                  <a:pt x="538712" y="29460"/>
                </a:lnTo>
                <a:lnTo>
                  <a:pt x="544432" y="34212"/>
                </a:lnTo>
                <a:lnTo>
                  <a:pt x="550470" y="38963"/>
                </a:lnTo>
                <a:lnTo>
                  <a:pt x="555872" y="44349"/>
                </a:lnTo>
                <a:lnTo>
                  <a:pt x="560956" y="50051"/>
                </a:lnTo>
                <a:lnTo>
                  <a:pt x="566041" y="56069"/>
                </a:lnTo>
                <a:lnTo>
                  <a:pt x="570807" y="62405"/>
                </a:lnTo>
                <a:lnTo>
                  <a:pt x="575574" y="69057"/>
                </a:lnTo>
                <a:lnTo>
                  <a:pt x="580023" y="76343"/>
                </a:lnTo>
                <a:lnTo>
                  <a:pt x="583836" y="83312"/>
                </a:lnTo>
                <a:lnTo>
                  <a:pt x="587331" y="91232"/>
                </a:lnTo>
                <a:lnTo>
                  <a:pt x="591145" y="99151"/>
                </a:lnTo>
                <a:lnTo>
                  <a:pt x="593687" y="107387"/>
                </a:lnTo>
                <a:lnTo>
                  <a:pt x="596547" y="115940"/>
                </a:lnTo>
                <a:lnTo>
                  <a:pt x="598771" y="124810"/>
                </a:lnTo>
                <a:lnTo>
                  <a:pt x="600996" y="134313"/>
                </a:lnTo>
                <a:lnTo>
                  <a:pt x="601949" y="144134"/>
                </a:lnTo>
                <a:lnTo>
                  <a:pt x="603220" y="153954"/>
                </a:lnTo>
                <a:lnTo>
                  <a:pt x="603856" y="164091"/>
                </a:lnTo>
                <a:lnTo>
                  <a:pt x="603856" y="174861"/>
                </a:lnTo>
                <a:lnTo>
                  <a:pt x="603856" y="182147"/>
                </a:lnTo>
                <a:lnTo>
                  <a:pt x="607669" y="182780"/>
                </a:lnTo>
                <a:lnTo>
                  <a:pt x="611165" y="183414"/>
                </a:lnTo>
                <a:lnTo>
                  <a:pt x="614342" y="184681"/>
                </a:lnTo>
                <a:lnTo>
                  <a:pt x="617520" y="186265"/>
                </a:lnTo>
                <a:lnTo>
                  <a:pt x="620698" y="187849"/>
                </a:lnTo>
                <a:lnTo>
                  <a:pt x="623240" y="190066"/>
                </a:lnTo>
                <a:lnTo>
                  <a:pt x="626100" y="192917"/>
                </a:lnTo>
                <a:lnTo>
                  <a:pt x="628324" y="195768"/>
                </a:lnTo>
                <a:lnTo>
                  <a:pt x="630549" y="199253"/>
                </a:lnTo>
                <a:lnTo>
                  <a:pt x="632455" y="202737"/>
                </a:lnTo>
                <a:lnTo>
                  <a:pt x="634362" y="206222"/>
                </a:lnTo>
                <a:lnTo>
                  <a:pt x="635633" y="210023"/>
                </a:lnTo>
                <a:lnTo>
                  <a:pt x="636586" y="214458"/>
                </a:lnTo>
                <a:lnTo>
                  <a:pt x="637540" y="218893"/>
                </a:lnTo>
                <a:lnTo>
                  <a:pt x="638175" y="223645"/>
                </a:lnTo>
                <a:lnTo>
                  <a:pt x="638175" y="228080"/>
                </a:lnTo>
                <a:lnTo>
                  <a:pt x="637857" y="232831"/>
                </a:lnTo>
                <a:lnTo>
                  <a:pt x="637222" y="237266"/>
                </a:lnTo>
                <a:lnTo>
                  <a:pt x="634997" y="241701"/>
                </a:lnTo>
                <a:lnTo>
                  <a:pt x="633091" y="245819"/>
                </a:lnTo>
                <a:lnTo>
                  <a:pt x="630549" y="249937"/>
                </a:lnTo>
                <a:lnTo>
                  <a:pt x="627371" y="253739"/>
                </a:lnTo>
                <a:lnTo>
                  <a:pt x="623558" y="257223"/>
                </a:lnTo>
                <a:lnTo>
                  <a:pt x="619744" y="260391"/>
                </a:lnTo>
                <a:lnTo>
                  <a:pt x="615931" y="263242"/>
                </a:lnTo>
                <a:lnTo>
                  <a:pt x="611482" y="265776"/>
                </a:lnTo>
                <a:lnTo>
                  <a:pt x="607669" y="268310"/>
                </a:lnTo>
                <a:lnTo>
                  <a:pt x="603220" y="270211"/>
                </a:lnTo>
                <a:lnTo>
                  <a:pt x="598771" y="271795"/>
                </a:lnTo>
                <a:lnTo>
                  <a:pt x="594958" y="272745"/>
                </a:lnTo>
                <a:lnTo>
                  <a:pt x="591145" y="273379"/>
                </a:lnTo>
                <a:lnTo>
                  <a:pt x="587014" y="273696"/>
                </a:lnTo>
                <a:lnTo>
                  <a:pt x="586696" y="273696"/>
                </a:lnTo>
                <a:lnTo>
                  <a:pt x="581612" y="288267"/>
                </a:lnTo>
                <a:lnTo>
                  <a:pt x="575256" y="302522"/>
                </a:lnTo>
                <a:lnTo>
                  <a:pt x="568900" y="316144"/>
                </a:lnTo>
                <a:lnTo>
                  <a:pt x="561910" y="329449"/>
                </a:lnTo>
                <a:lnTo>
                  <a:pt x="553965" y="342120"/>
                </a:lnTo>
                <a:lnTo>
                  <a:pt x="546021" y="353840"/>
                </a:lnTo>
                <a:lnTo>
                  <a:pt x="537759" y="364928"/>
                </a:lnTo>
                <a:lnTo>
                  <a:pt x="529179" y="375065"/>
                </a:lnTo>
                <a:lnTo>
                  <a:pt x="519646" y="384568"/>
                </a:lnTo>
                <a:lnTo>
                  <a:pt x="510748" y="392804"/>
                </a:lnTo>
                <a:lnTo>
                  <a:pt x="505981" y="396605"/>
                </a:lnTo>
                <a:lnTo>
                  <a:pt x="501215" y="399773"/>
                </a:lnTo>
                <a:lnTo>
                  <a:pt x="496130" y="403258"/>
                </a:lnTo>
                <a:lnTo>
                  <a:pt x="491364" y="406109"/>
                </a:lnTo>
                <a:lnTo>
                  <a:pt x="486279" y="408960"/>
                </a:lnTo>
                <a:lnTo>
                  <a:pt x="481513" y="410860"/>
                </a:lnTo>
                <a:lnTo>
                  <a:pt x="476428" y="412761"/>
                </a:lnTo>
                <a:lnTo>
                  <a:pt x="471344" y="414345"/>
                </a:lnTo>
                <a:lnTo>
                  <a:pt x="466577" y="415929"/>
                </a:lnTo>
                <a:lnTo>
                  <a:pt x="461493" y="416879"/>
                </a:lnTo>
                <a:lnTo>
                  <a:pt x="456409" y="417196"/>
                </a:lnTo>
                <a:lnTo>
                  <a:pt x="451006" y="417513"/>
                </a:lnTo>
                <a:lnTo>
                  <a:pt x="446558" y="417196"/>
                </a:lnTo>
                <a:lnTo>
                  <a:pt x="441155" y="416879"/>
                </a:lnTo>
                <a:lnTo>
                  <a:pt x="436071" y="415929"/>
                </a:lnTo>
                <a:lnTo>
                  <a:pt x="430987" y="414345"/>
                </a:lnTo>
                <a:lnTo>
                  <a:pt x="426220" y="412761"/>
                </a:lnTo>
                <a:lnTo>
                  <a:pt x="421136" y="410860"/>
                </a:lnTo>
                <a:lnTo>
                  <a:pt x="416369" y="408643"/>
                </a:lnTo>
                <a:lnTo>
                  <a:pt x="411285" y="406109"/>
                </a:lnTo>
                <a:lnTo>
                  <a:pt x="406518" y="402941"/>
                </a:lnTo>
                <a:lnTo>
                  <a:pt x="401434" y="399773"/>
                </a:lnTo>
                <a:lnTo>
                  <a:pt x="396667" y="396289"/>
                </a:lnTo>
                <a:lnTo>
                  <a:pt x="392218" y="392804"/>
                </a:lnTo>
                <a:lnTo>
                  <a:pt x="382685" y="384568"/>
                </a:lnTo>
                <a:lnTo>
                  <a:pt x="373470" y="375065"/>
                </a:lnTo>
                <a:lnTo>
                  <a:pt x="364890" y="364928"/>
                </a:lnTo>
                <a:lnTo>
                  <a:pt x="356628" y="353524"/>
                </a:lnTo>
                <a:lnTo>
                  <a:pt x="348365" y="341803"/>
                </a:lnTo>
                <a:lnTo>
                  <a:pt x="340739" y="329132"/>
                </a:lnTo>
                <a:lnTo>
                  <a:pt x="333748" y="315827"/>
                </a:lnTo>
                <a:lnTo>
                  <a:pt x="327075" y="302206"/>
                </a:lnTo>
                <a:lnTo>
                  <a:pt x="321037" y="287951"/>
                </a:lnTo>
                <a:lnTo>
                  <a:pt x="315952" y="273062"/>
                </a:lnTo>
                <a:lnTo>
                  <a:pt x="312139" y="272112"/>
                </a:lnTo>
                <a:lnTo>
                  <a:pt x="308644" y="271161"/>
                </a:lnTo>
                <a:lnTo>
                  <a:pt x="304513" y="269894"/>
                </a:lnTo>
                <a:lnTo>
                  <a:pt x="300699" y="267994"/>
                </a:lnTo>
                <a:lnTo>
                  <a:pt x="296568" y="265776"/>
                </a:lnTo>
                <a:lnTo>
                  <a:pt x="292755" y="263559"/>
                </a:lnTo>
                <a:lnTo>
                  <a:pt x="289259" y="260708"/>
                </a:lnTo>
                <a:lnTo>
                  <a:pt x="285764" y="258174"/>
                </a:lnTo>
                <a:lnTo>
                  <a:pt x="282586" y="255006"/>
                </a:lnTo>
                <a:lnTo>
                  <a:pt x="279408" y="251838"/>
                </a:lnTo>
                <a:lnTo>
                  <a:pt x="276548" y="248353"/>
                </a:lnTo>
                <a:lnTo>
                  <a:pt x="274324" y="244235"/>
                </a:lnTo>
                <a:lnTo>
                  <a:pt x="272417" y="240434"/>
                </a:lnTo>
                <a:lnTo>
                  <a:pt x="271146" y="236633"/>
                </a:lnTo>
                <a:lnTo>
                  <a:pt x="270193" y="232515"/>
                </a:lnTo>
                <a:lnTo>
                  <a:pt x="269875" y="228080"/>
                </a:lnTo>
                <a:lnTo>
                  <a:pt x="269875" y="223962"/>
                </a:lnTo>
                <a:lnTo>
                  <a:pt x="270193" y="219527"/>
                </a:lnTo>
                <a:lnTo>
                  <a:pt x="271146" y="215725"/>
                </a:lnTo>
                <a:lnTo>
                  <a:pt x="271782" y="211607"/>
                </a:lnTo>
                <a:lnTo>
                  <a:pt x="273371" y="208123"/>
                </a:lnTo>
                <a:lnTo>
                  <a:pt x="274642" y="204638"/>
                </a:lnTo>
                <a:lnTo>
                  <a:pt x="276231" y="201470"/>
                </a:lnTo>
                <a:lnTo>
                  <a:pt x="278137" y="198303"/>
                </a:lnTo>
                <a:lnTo>
                  <a:pt x="280044" y="195135"/>
                </a:lnTo>
                <a:lnTo>
                  <a:pt x="282586" y="192917"/>
                </a:lnTo>
                <a:lnTo>
                  <a:pt x="284811" y="190383"/>
                </a:lnTo>
                <a:lnTo>
                  <a:pt x="287671" y="188166"/>
                </a:lnTo>
                <a:lnTo>
                  <a:pt x="289895" y="186582"/>
                </a:lnTo>
                <a:lnTo>
                  <a:pt x="293073" y="184998"/>
                </a:lnTo>
                <a:lnTo>
                  <a:pt x="295933" y="183731"/>
                </a:lnTo>
                <a:lnTo>
                  <a:pt x="299110" y="183097"/>
                </a:lnTo>
                <a:lnTo>
                  <a:pt x="298793" y="174861"/>
                </a:lnTo>
                <a:lnTo>
                  <a:pt x="299110" y="164091"/>
                </a:lnTo>
                <a:lnTo>
                  <a:pt x="299428" y="153954"/>
                </a:lnTo>
                <a:lnTo>
                  <a:pt x="300699" y="144134"/>
                </a:lnTo>
                <a:lnTo>
                  <a:pt x="302288" y="134313"/>
                </a:lnTo>
                <a:lnTo>
                  <a:pt x="304195" y="124810"/>
                </a:lnTo>
                <a:lnTo>
                  <a:pt x="306101" y="115940"/>
                </a:lnTo>
                <a:lnTo>
                  <a:pt x="308961" y="107387"/>
                </a:lnTo>
                <a:lnTo>
                  <a:pt x="312139" y="99151"/>
                </a:lnTo>
                <a:lnTo>
                  <a:pt x="315317" y="91232"/>
                </a:lnTo>
                <a:lnTo>
                  <a:pt x="319130" y="83312"/>
                </a:lnTo>
                <a:lnTo>
                  <a:pt x="323261" y="76343"/>
                </a:lnTo>
                <a:lnTo>
                  <a:pt x="327075" y="69057"/>
                </a:lnTo>
                <a:lnTo>
                  <a:pt x="331841" y="62405"/>
                </a:lnTo>
                <a:lnTo>
                  <a:pt x="336608" y="56069"/>
                </a:lnTo>
                <a:lnTo>
                  <a:pt x="341692" y="50051"/>
                </a:lnTo>
                <a:lnTo>
                  <a:pt x="346777" y="44349"/>
                </a:lnTo>
                <a:lnTo>
                  <a:pt x="352179" y="38963"/>
                </a:lnTo>
                <a:lnTo>
                  <a:pt x="358216" y="34212"/>
                </a:lnTo>
                <a:lnTo>
                  <a:pt x="363936" y="29460"/>
                </a:lnTo>
                <a:lnTo>
                  <a:pt x="369974" y="25342"/>
                </a:lnTo>
                <a:lnTo>
                  <a:pt x="376329" y="21224"/>
                </a:lnTo>
                <a:lnTo>
                  <a:pt x="382685" y="17423"/>
                </a:lnTo>
                <a:lnTo>
                  <a:pt x="389358" y="14255"/>
                </a:lnTo>
                <a:lnTo>
                  <a:pt x="396031" y="11404"/>
                </a:lnTo>
                <a:lnTo>
                  <a:pt x="402705" y="8553"/>
                </a:lnTo>
                <a:lnTo>
                  <a:pt x="409378" y="6335"/>
                </a:lnTo>
                <a:lnTo>
                  <a:pt x="416369" y="4435"/>
                </a:lnTo>
                <a:lnTo>
                  <a:pt x="423042" y="2851"/>
                </a:lnTo>
                <a:lnTo>
                  <a:pt x="430351" y="1584"/>
                </a:lnTo>
                <a:lnTo>
                  <a:pt x="437342" y="950"/>
                </a:lnTo>
                <a:lnTo>
                  <a:pt x="444333" y="317"/>
                </a:lnTo>
                <a:lnTo>
                  <a:pt x="45100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KSO_Shape"/>
          <p:cNvSpPr/>
          <p:nvPr/>
        </p:nvSpPr>
        <p:spPr>
          <a:xfrm>
            <a:off x="1343160" y="2938320"/>
            <a:ext cx="474480" cy="1268640"/>
          </a:xfrm>
          <a:custGeom>
            <a:avLst/>
            <a:gdLst/>
            <a:ahLst/>
            <a:rect l="l" t="t" r="r" b="b"/>
            <a:pathLst>
              <a:path w="1071563" h="2144713">
                <a:moveTo>
                  <a:pt x="337303" y="111125"/>
                </a:moveTo>
                <a:lnTo>
                  <a:pt x="345236" y="111125"/>
                </a:lnTo>
                <a:lnTo>
                  <a:pt x="352851" y="112395"/>
                </a:lnTo>
                <a:lnTo>
                  <a:pt x="360784" y="113665"/>
                </a:lnTo>
                <a:lnTo>
                  <a:pt x="368082" y="116205"/>
                </a:lnTo>
                <a:lnTo>
                  <a:pt x="375698" y="119380"/>
                </a:lnTo>
                <a:lnTo>
                  <a:pt x="382678" y="123190"/>
                </a:lnTo>
                <a:lnTo>
                  <a:pt x="385852" y="125730"/>
                </a:lnTo>
                <a:lnTo>
                  <a:pt x="389342" y="128270"/>
                </a:lnTo>
                <a:lnTo>
                  <a:pt x="392515" y="131128"/>
                </a:lnTo>
                <a:lnTo>
                  <a:pt x="395688" y="133985"/>
                </a:lnTo>
                <a:lnTo>
                  <a:pt x="398544" y="137160"/>
                </a:lnTo>
                <a:lnTo>
                  <a:pt x="401400" y="140335"/>
                </a:lnTo>
                <a:lnTo>
                  <a:pt x="404256" y="143828"/>
                </a:lnTo>
                <a:lnTo>
                  <a:pt x="406794" y="147638"/>
                </a:lnTo>
                <a:lnTo>
                  <a:pt x="409650" y="151448"/>
                </a:lnTo>
                <a:lnTo>
                  <a:pt x="411554" y="155893"/>
                </a:lnTo>
                <a:lnTo>
                  <a:pt x="413775" y="160020"/>
                </a:lnTo>
                <a:lnTo>
                  <a:pt x="415996" y="164783"/>
                </a:lnTo>
                <a:lnTo>
                  <a:pt x="417583" y="169545"/>
                </a:lnTo>
                <a:lnTo>
                  <a:pt x="419487" y="174625"/>
                </a:lnTo>
                <a:lnTo>
                  <a:pt x="420756" y="180023"/>
                </a:lnTo>
                <a:lnTo>
                  <a:pt x="422342" y="185103"/>
                </a:lnTo>
                <a:lnTo>
                  <a:pt x="423294" y="190818"/>
                </a:lnTo>
                <a:lnTo>
                  <a:pt x="424564" y="196850"/>
                </a:lnTo>
                <a:lnTo>
                  <a:pt x="425198" y="202883"/>
                </a:lnTo>
                <a:lnTo>
                  <a:pt x="425516" y="209233"/>
                </a:lnTo>
                <a:lnTo>
                  <a:pt x="466132" y="824548"/>
                </a:lnTo>
                <a:lnTo>
                  <a:pt x="465814" y="825818"/>
                </a:lnTo>
                <a:lnTo>
                  <a:pt x="466766" y="827405"/>
                </a:lnTo>
                <a:lnTo>
                  <a:pt x="467718" y="831850"/>
                </a:lnTo>
                <a:lnTo>
                  <a:pt x="486440" y="831533"/>
                </a:lnTo>
                <a:lnTo>
                  <a:pt x="494372" y="831533"/>
                </a:lnTo>
                <a:lnTo>
                  <a:pt x="502305" y="831533"/>
                </a:lnTo>
                <a:lnTo>
                  <a:pt x="510238" y="832168"/>
                </a:lnTo>
                <a:lnTo>
                  <a:pt x="517853" y="832803"/>
                </a:lnTo>
                <a:lnTo>
                  <a:pt x="525469" y="834073"/>
                </a:lnTo>
                <a:lnTo>
                  <a:pt x="532767" y="835025"/>
                </a:lnTo>
                <a:lnTo>
                  <a:pt x="540065" y="836930"/>
                </a:lnTo>
                <a:lnTo>
                  <a:pt x="547681" y="838518"/>
                </a:lnTo>
                <a:lnTo>
                  <a:pt x="554662" y="840740"/>
                </a:lnTo>
                <a:lnTo>
                  <a:pt x="562277" y="843280"/>
                </a:lnTo>
                <a:lnTo>
                  <a:pt x="569258" y="846138"/>
                </a:lnTo>
                <a:lnTo>
                  <a:pt x="575922" y="849313"/>
                </a:lnTo>
                <a:lnTo>
                  <a:pt x="582902" y="852488"/>
                </a:lnTo>
                <a:lnTo>
                  <a:pt x="589883" y="856298"/>
                </a:lnTo>
                <a:lnTo>
                  <a:pt x="596547" y="860108"/>
                </a:lnTo>
                <a:lnTo>
                  <a:pt x="602893" y="864553"/>
                </a:lnTo>
                <a:lnTo>
                  <a:pt x="607653" y="867410"/>
                </a:lnTo>
                <a:lnTo>
                  <a:pt x="612412" y="870585"/>
                </a:lnTo>
                <a:lnTo>
                  <a:pt x="616855" y="874078"/>
                </a:lnTo>
                <a:lnTo>
                  <a:pt x="621614" y="877570"/>
                </a:lnTo>
                <a:lnTo>
                  <a:pt x="625740" y="881380"/>
                </a:lnTo>
                <a:lnTo>
                  <a:pt x="630182" y="885190"/>
                </a:lnTo>
                <a:lnTo>
                  <a:pt x="633990" y="889318"/>
                </a:lnTo>
                <a:lnTo>
                  <a:pt x="637797" y="893445"/>
                </a:lnTo>
                <a:lnTo>
                  <a:pt x="642874" y="899478"/>
                </a:lnTo>
                <a:lnTo>
                  <a:pt x="647317" y="905510"/>
                </a:lnTo>
                <a:lnTo>
                  <a:pt x="652076" y="911543"/>
                </a:lnTo>
                <a:lnTo>
                  <a:pt x="656201" y="917893"/>
                </a:lnTo>
                <a:lnTo>
                  <a:pt x="660644" y="924243"/>
                </a:lnTo>
                <a:lnTo>
                  <a:pt x="664452" y="930593"/>
                </a:lnTo>
                <a:lnTo>
                  <a:pt x="668259" y="936943"/>
                </a:lnTo>
                <a:lnTo>
                  <a:pt x="671432" y="943610"/>
                </a:lnTo>
                <a:lnTo>
                  <a:pt x="674923" y="950595"/>
                </a:lnTo>
                <a:lnTo>
                  <a:pt x="677779" y="957580"/>
                </a:lnTo>
                <a:lnTo>
                  <a:pt x="680952" y="964565"/>
                </a:lnTo>
                <a:lnTo>
                  <a:pt x="683490" y="971868"/>
                </a:lnTo>
                <a:lnTo>
                  <a:pt x="686029" y="978853"/>
                </a:lnTo>
                <a:lnTo>
                  <a:pt x="688567" y="986155"/>
                </a:lnTo>
                <a:lnTo>
                  <a:pt x="690471" y="993775"/>
                </a:lnTo>
                <a:lnTo>
                  <a:pt x="692375" y="1001078"/>
                </a:lnTo>
                <a:lnTo>
                  <a:pt x="771386" y="1024890"/>
                </a:lnTo>
                <a:lnTo>
                  <a:pt x="772338" y="1026160"/>
                </a:lnTo>
                <a:lnTo>
                  <a:pt x="781540" y="1031558"/>
                </a:lnTo>
                <a:lnTo>
                  <a:pt x="791059" y="1037273"/>
                </a:lnTo>
                <a:lnTo>
                  <a:pt x="799944" y="1042988"/>
                </a:lnTo>
                <a:lnTo>
                  <a:pt x="808829" y="1049020"/>
                </a:lnTo>
                <a:lnTo>
                  <a:pt x="817713" y="1055053"/>
                </a:lnTo>
                <a:lnTo>
                  <a:pt x="826281" y="1061085"/>
                </a:lnTo>
                <a:lnTo>
                  <a:pt x="834214" y="1067753"/>
                </a:lnTo>
                <a:lnTo>
                  <a:pt x="842464" y="1074103"/>
                </a:lnTo>
                <a:lnTo>
                  <a:pt x="850397" y="1081088"/>
                </a:lnTo>
                <a:lnTo>
                  <a:pt x="857695" y="1088390"/>
                </a:lnTo>
                <a:lnTo>
                  <a:pt x="864993" y="1095693"/>
                </a:lnTo>
                <a:lnTo>
                  <a:pt x="872608" y="1103313"/>
                </a:lnTo>
                <a:lnTo>
                  <a:pt x="879589" y="1111250"/>
                </a:lnTo>
                <a:lnTo>
                  <a:pt x="886253" y="1119823"/>
                </a:lnTo>
                <a:lnTo>
                  <a:pt x="893234" y="1128395"/>
                </a:lnTo>
                <a:lnTo>
                  <a:pt x="899897" y="1136968"/>
                </a:lnTo>
                <a:lnTo>
                  <a:pt x="903070" y="1142365"/>
                </a:lnTo>
                <a:lnTo>
                  <a:pt x="906561" y="1147763"/>
                </a:lnTo>
                <a:lnTo>
                  <a:pt x="909417" y="1153478"/>
                </a:lnTo>
                <a:lnTo>
                  <a:pt x="912590" y="1159193"/>
                </a:lnTo>
                <a:lnTo>
                  <a:pt x="917984" y="1170623"/>
                </a:lnTo>
                <a:lnTo>
                  <a:pt x="922744" y="1183005"/>
                </a:lnTo>
                <a:lnTo>
                  <a:pt x="927821" y="1196023"/>
                </a:lnTo>
                <a:lnTo>
                  <a:pt x="932263" y="1209040"/>
                </a:lnTo>
                <a:lnTo>
                  <a:pt x="941148" y="1234758"/>
                </a:lnTo>
                <a:lnTo>
                  <a:pt x="945907" y="1248093"/>
                </a:lnTo>
                <a:lnTo>
                  <a:pt x="950667" y="1260475"/>
                </a:lnTo>
                <a:lnTo>
                  <a:pt x="956379" y="1272540"/>
                </a:lnTo>
                <a:lnTo>
                  <a:pt x="962408" y="1283970"/>
                </a:lnTo>
                <a:lnTo>
                  <a:pt x="965581" y="1289368"/>
                </a:lnTo>
                <a:lnTo>
                  <a:pt x="968754" y="1295083"/>
                </a:lnTo>
                <a:lnTo>
                  <a:pt x="972879" y="1300163"/>
                </a:lnTo>
                <a:lnTo>
                  <a:pt x="976369" y="1304925"/>
                </a:lnTo>
                <a:lnTo>
                  <a:pt x="980495" y="1309688"/>
                </a:lnTo>
                <a:lnTo>
                  <a:pt x="984620" y="1314133"/>
                </a:lnTo>
                <a:lnTo>
                  <a:pt x="989379" y="1318578"/>
                </a:lnTo>
                <a:lnTo>
                  <a:pt x="993822" y="1322388"/>
                </a:lnTo>
                <a:lnTo>
                  <a:pt x="1011908" y="1335088"/>
                </a:lnTo>
                <a:lnTo>
                  <a:pt x="1020159" y="1341438"/>
                </a:lnTo>
                <a:lnTo>
                  <a:pt x="1028091" y="1347470"/>
                </a:lnTo>
                <a:lnTo>
                  <a:pt x="1035072" y="1354138"/>
                </a:lnTo>
                <a:lnTo>
                  <a:pt x="1038563" y="1357630"/>
                </a:lnTo>
                <a:lnTo>
                  <a:pt x="1041736" y="1361758"/>
                </a:lnTo>
                <a:lnTo>
                  <a:pt x="1044909" y="1365568"/>
                </a:lnTo>
                <a:lnTo>
                  <a:pt x="1048082" y="1370013"/>
                </a:lnTo>
                <a:lnTo>
                  <a:pt x="1050938" y="1374775"/>
                </a:lnTo>
                <a:lnTo>
                  <a:pt x="1053794" y="1379538"/>
                </a:lnTo>
                <a:lnTo>
                  <a:pt x="1057919" y="1387793"/>
                </a:lnTo>
                <a:lnTo>
                  <a:pt x="1061409" y="1396683"/>
                </a:lnTo>
                <a:lnTo>
                  <a:pt x="1064265" y="1405573"/>
                </a:lnTo>
                <a:lnTo>
                  <a:pt x="1066803" y="1414463"/>
                </a:lnTo>
                <a:lnTo>
                  <a:pt x="1068707" y="1423671"/>
                </a:lnTo>
                <a:lnTo>
                  <a:pt x="1069977" y="1432878"/>
                </a:lnTo>
                <a:lnTo>
                  <a:pt x="1071246" y="1442403"/>
                </a:lnTo>
                <a:lnTo>
                  <a:pt x="1071563" y="1451928"/>
                </a:lnTo>
                <a:lnTo>
                  <a:pt x="1071563" y="1461453"/>
                </a:lnTo>
                <a:lnTo>
                  <a:pt x="1071563" y="1471296"/>
                </a:lnTo>
                <a:lnTo>
                  <a:pt x="1070611" y="1481456"/>
                </a:lnTo>
                <a:lnTo>
                  <a:pt x="1069659" y="1491298"/>
                </a:lnTo>
                <a:lnTo>
                  <a:pt x="1068390" y="1501141"/>
                </a:lnTo>
                <a:lnTo>
                  <a:pt x="1066803" y="1510983"/>
                </a:lnTo>
                <a:lnTo>
                  <a:pt x="1065217" y="1521461"/>
                </a:lnTo>
                <a:lnTo>
                  <a:pt x="1062996" y="1531303"/>
                </a:lnTo>
                <a:lnTo>
                  <a:pt x="1058236" y="1551306"/>
                </a:lnTo>
                <a:lnTo>
                  <a:pt x="1053159" y="1571626"/>
                </a:lnTo>
                <a:lnTo>
                  <a:pt x="1047447" y="1591311"/>
                </a:lnTo>
                <a:lnTo>
                  <a:pt x="1041736" y="1611313"/>
                </a:lnTo>
                <a:lnTo>
                  <a:pt x="1030313" y="1649096"/>
                </a:lnTo>
                <a:lnTo>
                  <a:pt x="1025553" y="1667193"/>
                </a:lnTo>
                <a:lnTo>
                  <a:pt x="1020793" y="1684973"/>
                </a:lnTo>
                <a:lnTo>
                  <a:pt x="1013495" y="1717041"/>
                </a:lnTo>
                <a:lnTo>
                  <a:pt x="1005562" y="1749743"/>
                </a:lnTo>
                <a:lnTo>
                  <a:pt x="997629" y="1781493"/>
                </a:lnTo>
                <a:lnTo>
                  <a:pt x="993187" y="1797686"/>
                </a:lnTo>
                <a:lnTo>
                  <a:pt x="988745" y="1813243"/>
                </a:lnTo>
                <a:lnTo>
                  <a:pt x="983668" y="1828801"/>
                </a:lnTo>
                <a:lnTo>
                  <a:pt x="978273" y="1844041"/>
                </a:lnTo>
                <a:lnTo>
                  <a:pt x="972879" y="1859281"/>
                </a:lnTo>
                <a:lnTo>
                  <a:pt x="966215" y="1874521"/>
                </a:lnTo>
                <a:lnTo>
                  <a:pt x="959552" y="1889126"/>
                </a:lnTo>
                <a:lnTo>
                  <a:pt x="952254" y="1903731"/>
                </a:lnTo>
                <a:lnTo>
                  <a:pt x="944321" y="1918336"/>
                </a:lnTo>
                <a:lnTo>
                  <a:pt x="935436" y="1932623"/>
                </a:lnTo>
                <a:lnTo>
                  <a:pt x="931628" y="1939291"/>
                </a:lnTo>
                <a:lnTo>
                  <a:pt x="928773" y="1945958"/>
                </a:lnTo>
                <a:lnTo>
                  <a:pt x="926234" y="1952308"/>
                </a:lnTo>
                <a:lnTo>
                  <a:pt x="924965" y="1958658"/>
                </a:lnTo>
                <a:lnTo>
                  <a:pt x="924330" y="1965008"/>
                </a:lnTo>
                <a:lnTo>
                  <a:pt x="924013" y="1971041"/>
                </a:lnTo>
                <a:lnTo>
                  <a:pt x="924330" y="1977391"/>
                </a:lnTo>
                <a:lnTo>
                  <a:pt x="924965" y="1983423"/>
                </a:lnTo>
                <a:lnTo>
                  <a:pt x="925917" y="1989773"/>
                </a:lnTo>
                <a:lnTo>
                  <a:pt x="927503" y="1996123"/>
                </a:lnTo>
                <a:lnTo>
                  <a:pt x="930994" y="2008823"/>
                </a:lnTo>
                <a:lnTo>
                  <a:pt x="934802" y="2022476"/>
                </a:lnTo>
                <a:lnTo>
                  <a:pt x="939244" y="2036446"/>
                </a:lnTo>
                <a:lnTo>
                  <a:pt x="966850" y="2144713"/>
                </a:lnTo>
                <a:lnTo>
                  <a:pt x="295100" y="2144713"/>
                </a:lnTo>
                <a:lnTo>
                  <a:pt x="292562" y="2130108"/>
                </a:lnTo>
                <a:lnTo>
                  <a:pt x="289071" y="2115821"/>
                </a:lnTo>
                <a:lnTo>
                  <a:pt x="285581" y="2101851"/>
                </a:lnTo>
                <a:lnTo>
                  <a:pt x="281456" y="2087563"/>
                </a:lnTo>
                <a:lnTo>
                  <a:pt x="276696" y="2073276"/>
                </a:lnTo>
                <a:lnTo>
                  <a:pt x="271937" y="2059623"/>
                </a:lnTo>
                <a:lnTo>
                  <a:pt x="266542" y="2046288"/>
                </a:lnTo>
                <a:lnTo>
                  <a:pt x="260831" y="2032318"/>
                </a:lnTo>
                <a:lnTo>
                  <a:pt x="254802" y="2019301"/>
                </a:lnTo>
                <a:lnTo>
                  <a:pt x="248138" y="2006283"/>
                </a:lnTo>
                <a:lnTo>
                  <a:pt x="241475" y="1992948"/>
                </a:lnTo>
                <a:lnTo>
                  <a:pt x="233859" y="1980566"/>
                </a:lnTo>
                <a:lnTo>
                  <a:pt x="226561" y="1968183"/>
                </a:lnTo>
                <a:lnTo>
                  <a:pt x="218311" y="1955801"/>
                </a:lnTo>
                <a:lnTo>
                  <a:pt x="210378" y="1944053"/>
                </a:lnTo>
                <a:lnTo>
                  <a:pt x="201810" y="1932623"/>
                </a:lnTo>
                <a:lnTo>
                  <a:pt x="197051" y="1927226"/>
                </a:lnTo>
                <a:lnTo>
                  <a:pt x="192608" y="1921511"/>
                </a:lnTo>
                <a:lnTo>
                  <a:pt x="182772" y="1911033"/>
                </a:lnTo>
                <a:lnTo>
                  <a:pt x="172300" y="1900238"/>
                </a:lnTo>
                <a:lnTo>
                  <a:pt x="161512" y="1889126"/>
                </a:lnTo>
                <a:lnTo>
                  <a:pt x="150723" y="1878331"/>
                </a:lnTo>
                <a:lnTo>
                  <a:pt x="140252" y="1867218"/>
                </a:lnTo>
                <a:lnTo>
                  <a:pt x="135175" y="1861186"/>
                </a:lnTo>
                <a:lnTo>
                  <a:pt x="130415" y="1855788"/>
                </a:lnTo>
                <a:lnTo>
                  <a:pt x="125656" y="1849756"/>
                </a:lnTo>
                <a:lnTo>
                  <a:pt x="121531" y="1843723"/>
                </a:lnTo>
                <a:lnTo>
                  <a:pt x="0" y="1283335"/>
                </a:lnTo>
                <a:lnTo>
                  <a:pt x="1587" y="1273810"/>
                </a:lnTo>
                <a:lnTo>
                  <a:pt x="3173" y="1264920"/>
                </a:lnTo>
                <a:lnTo>
                  <a:pt x="5077" y="1256348"/>
                </a:lnTo>
                <a:lnTo>
                  <a:pt x="7616" y="1248410"/>
                </a:lnTo>
                <a:lnTo>
                  <a:pt x="10154" y="1240473"/>
                </a:lnTo>
                <a:lnTo>
                  <a:pt x="13644" y="1233170"/>
                </a:lnTo>
                <a:lnTo>
                  <a:pt x="16818" y="1226503"/>
                </a:lnTo>
                <a:lnTo>
                  <a:pt x="20625" y="1219518"/>
                </a:lnTo>
                <a:lnTo>
                  <a:pt x="24433" y="1213168"/>
                </a:lnTo>
                <a:lnTo>
                  <a:pt x="28558" y="1207135"/>
                </a:lnTo>
                <a:lnTo>
                  <a:pt x="33318" y="1201420"/>
                </a:lnTo>
                <a:lnTo>
                  <a:pt x="38077" y="1196340"/>
                </a:lnTo>
                <a:lnTo>
                  <a:pt x="42837" y="1191260"/>
                </a:lnTo>
                <a:lnTo>
                  <a:pt x="48231" y="1186180"/>
                </a:lnTo>
                <a:lnTo>
                  <a:pt x="53943" y="1181735"/>
                </a:lnTo>
                <a:lnTo>
                  <a:pt x="59655" y="1176973"/>
                </a:lnTo>
                <a:lnTo>
                  <a:pt x="65684" y="1173163"/>
                </a:lnTo>
                <a:lnTo>
                  <a:pt x="71395" y="1169035"/>
                </a:lnTo>
                <a:lnTo>
                  <a:pt x="78059" y="1165225"/>
                </a:lnTo>
                <a:lnTo>
                  <a:pt x="84405" y="1161098"/>
                </a:lnTo>
                <a:lnTo>
                  <a:pt x="97732" y="1154113"/>
                </a:lnTo>
                <a:lnTo>
                  <a:pt x="112011" y="1147445"/>
                </a:lnTo>
                <a:lnTo>
                  <a:pt x="125973" y="1140778"/>
                </a:lnTo>
                <a:lnTo>
                  <a:pt x="140887" y="1134428"/>
                </a:lnTo>
                <a:lnTo>
                  <a:pt x="171666" y="1120775"/>
                </a:lnTo>
                <a:lnTo>
                  <a:pt x="227513" y="1095375"/>
                </a:lnTo>
                <a:lnTo>
                  <a:pt x="231955" y="1093153"/>
                </a:lnTo>
                <a:lnTo>
                  <a:pt x="235446" y="1090930"/>
                </a:lnTo>
                <a:lnTo>
                  <a:pt x="237984" y="1089025"/>
                </a:lnTo>
                <a:lnTo>
                  <a:pt x="240523" y="1086803"/>
                </a:lnTo>
                <a:lnTo>
                  <a:pt x="242109" y="1084263"/>
                </a:lnTo>
                <a:lnTo>
                  <a:pt x="243061" y="1081723"/>
                </a:lnTo>
                <a:lnTo>
                  <a:pt x="244330" y="1079500"/>
                </a:lnTo>
                <a:lnTo>
                  <a:pt x="244648" y="1076643"/>
                </a:lnTo>
                <a:lnTo>
                  <a:pt x="244965" y="1073785"/>
                </a:lnTo>
                <a:lnTo>
                  <a:pt x="244965" y="1070610"/>
                </a:lnTo>
                <a:lnTo>
                  <a:pt x="244965" y="1062990"/>
                </a:lnTo>
                <a:lnTo>
                  <a:pt x="244330" y="1055053"/>
                </a:lnTo>
                <a:lnTo>
                  <a:pt x="244330" y="1044893"/>
                </a:lnTo>
                <a:lnTo>
                  <a:pt x="245282" y="981710"/>
                </a:lnTo>
                <a:lnTo>
                  <a:pt x="247186" y="876935"/>
                </a:lnTo>
                <a:lnTo>
                  <a:pt x="250677" y="601345"/>
                </a:lnTo>
                <a:lnTo>
                  <a:pt x="253532" y="337185"/>
                </a:lnTo>
                <a:lnTo>
                  <a:pt x="254802" y="203200"/>
                </a:lnTo>
                <a:lnTo>
                  <a:pt x="255119" y="198120"/>
                </a:lnTo>
                <a:lnTo>
                  <a:pt x="255754" y="192723"/>
                </a:lnTo>
                <a:lnTo>
                  <a:pt x="256071" y="187643"/>
                </a:lnTo>
                <a:lnTo>
                  <a:pt x="256706" y="182880"/>
                </a:lnTo>
                <a:lnTo>
                  <a:pt x="257657" y="178118"/>
                </a:lnTo>
                <a:lnTo>
                  <a:pt x="259244" y="173673"/>
                </a:lnTo>
                <a:lnTo>
                  <a:pt x="260513" y="168910"/>
                </a:lnTo>
                <a:lnTo>
                  <a:pt x="262100" y="164783"/>
                </a:lnTo>
                <a:lnTo>
                  <a:pt x="263686" y="160655"/>
                </a:lnTo>
                <a:lnTo>
                  <a:pt x="265908" y="156528"/>
                </a:lnTo>
                <a:lnTo>
                  <a:pt x="267494" y="153035"/>
                </a:lnTo>
                <a:lnTo>
                  <a:pt x="270033" y="149225"/>
                </a:lnTo>
                <a:lnTo>
                  <a:pt x="272571" y="145415"/>
                </a:lnTo>
                <a:lnTo>
                  <a:pt x="275110" y="142240"/>
                </a:lnTo>
                <a:lnTo>
                  <a:pt x="280504" y="135890"/>
                </a:lnTo>
                <a:lnTo>
                  <a:pt x="286533" y="130810"/>
                </a:lnTo>
                <a:lnTo>
                  <a:pt x="293196" y="125730"/>
                </a:lnTo>
                <a:lnTo>
                  <a:pt x="299860" y="121603"/>
                </a:lnTo>
                <a:lnTo>
                  <a:pt x="306841" y="117793"/>
                </a:lnTo>
                <a:lnTo>
                  <a:pt x="314456" y="115253"/>
                </a:lnTo>
                <a:lnTo>
                  <a:pt x="321755" y="113348"/>
                </a:lnTo>
                <a:lnTo>
                  <a:pt x="329687" y="111760"/>
                </a:lnTo>
                <a:lnTo>
                  <a:pt x="337303" y="111125"/>
                </a:lnTo>
                <a:close/>
                <a:moveTo>
                  <a:pt x="331337" y="0"/>
                </a:moveTo>
                <a:lnTo>
                  <a:pt x="337980" y="0"/>
                </a:lnTo>
                <a:lnTo>
                  <a:pt x="344939" y="0"/>
                </a:lnTo>
                <a:lnTo>
                  <a:pt x="351266" y="318"/>
                </a:lnTo>
                <a:lnTo>
                  <a:pt x="357909" y="955"/>
                </a:lnTo>
                <a:lnTo>
                  <a:pt x="364236" y="1910"/>
                </a:lnTo>
                <a:lnTo>
                  <a:pt x="370247" y="3182"/>
                </a:lnTo>
                <a:lnTo>
                  <a:pt x="376257" y="4774"/>
                </a:lnTo>
                <a:lnTo>
                  <a:pt x="382268" y="6683"/>
                </a:lnTo>
                <a:lnTo>
                  <a:pt x="387962" y="8274"/>
                </a:lnTo>
                <a:lnTo>
                  <a:pt x="393656" y="10820"/>
                </a:lnTo>
                <a:lnTo>
                  <a:pt x="399034" y="13366"/>
                </a:lnTo>
                <a:lnTo>
                  <a:pt x="404728" y="16230"/>
                </a:lnTo>
                <a:lnTo>
                  <a:pt x="410106" y="19412"/>
                </a:lnTo>
                <a:lnTo>
                  <a:pt x="415167" y="22594"/>
                </a:lnTo>
                <a:lnTo>
                  <a:pt x="420229" y="26413"/>
                </a:lnTo>
                <a:lnTo>
                  <a:pt x="425290" y="30550"/>
                </a:lnTo>
                <a:lnTo>
                  <a:pt x="430352" y="34687"/>
                </a:lnTo>
                <a:lnTo>
                  <a:pt x="434781" y="38823"/>
                </a:lnTo>
                <a:lnTo>
                  <a:pt x="438893" y="43597"/>
                </a:lnTo>
                <a:lnTo>
                  <a:pt x="443006" y="48052"/>
                </a:lnTo>
                <a:lnTo>
                  <a:pt x="446802" y="53144"/>
                </a:lnTo>
                <a:lnTo>
                  <a:pt x="450282" y="57599"/>
                </a:lnTo>
                <a:lnTo>
                  <a:pt x="453445" y="62690"/>
                </a:lnTo>
                <a:lnTo>
                  <a:pt x="456292" y="68100"/>
                </a:lnTo>
                <a:lnTo>
                  <a:pt x="458823" y="73510"/>
                </a:lnTo>
                <a:lnTo>
                  <a:pt x="461037" y="78601"/>
                </a:lnTo>
                <a:lnTo>
                  <a:pt x="462935" y="84011"/>
                </a:lnTo>
                <a:lnTo>
                  <a:pt x="464517" y="89421"/>
                </a:lnTo>
                <a:lnTo>
                  <a:pt x="465782" y="95149"/>
                </a:lnTo>
                <a:lnTo>
                  <a:pt x="467048" y="101195"/>
                </a:lnTo>
                <a:lnTo>
                  <a:pt x="467680" y="106605"/>
                </a:lnTo>
                <a:lnTo>
                  <a:pt x="468313" y="112651"/>
                </a:lnTo>
                <a:lnTo>
                  <a:pt x="468313" y="118698"/>
                </a:lnTo>
                <a:lnTo>
                  <a:pt x="468313" y="124107"/>
                </a:lnTo>
                <a:lnTo>
                  <a:pt x="467997" y="129517"/>
                </a:lnTo>
                <a:lnTo>
                  <a:pt x="466415" y="139700"/>
                </a:lnTo>
                <a:lnTo>
                  <a:pt x="464517" y="130472"/>
                </a:lnTo>
                <a:lnTo>
                  <a:pt x="461986" y="121880"/>
                </a:lnTo>
                <a:lnTo>
                  <a:pt x="458506" y="113606"/>
                </a:lnTo>
                <a:lnTo>
                  <a:pt x="454078" y="105332"/>
                </a:lnTo>
                <a:lnTo>
                  <a:pt x="449332" y="98013"/>
                </a:lnTo>
                <a:lnTo>
                  <a:pt x="443638" y="90057"/>
                </a:lnTo>
                <a:lnTo>
                  <a:pt x="437311" y="83057"/>
                </a:lnTo>
                <a:lnTo>
                  <a:pt x="430352" y="75737"/>
                </a:lnTo>
                <a:lnTo>
                  <a:pt x="425290" y="71919"/>
                </a:lnTo>
                <a:lnTo>
                  <a:pt x="420229" y="67782"/>
                </a:lnTo>
                <a:lnTo>
                  <a:pt x="415484" y="64281"/>
                </a:lnTo>
                <a:lnTo>
                  <a:pt x="410106" y="60463"/>
                </a:lnTo>
                <a:lnTo>
                  <a:pt x="404728" y="57280"/>
                </a:lnTo>
                <a:lnTo>
                  <a:pt x="399667" y="54416"/>
                </a:lnTo>
                <a:lnTo>
                  <a:pt x="393973" y="52189"/>
                </a:lnTo>
                <a:lnTo>
                  <a:pt x="388278" y="49961"/>
                </a:lnTo>
                <a:lnTo>
                  <a:pt x="382268" y="47734"/>
                </a:lnTo>
                <a:lnTo>
                  <a:pt x="376257" y="46143"/>
                </a:lnTo>
                <a:lnTo>
                  <a:pt x="370247" y="44552"/>
                </a:lnTo>
                <a:lnTo>
                  <a:pt x="364236" y="43279"/>
                </a:lnTo>
                <a:lnTo>
                  <a:pt x="357909" y="42642"/>
                </a:lnTo>
                <a:lnTo>
                  <a:pt x="351583" y="41687"/>
                </a:lnTo>
                <a:lnTo>
                  <a:pt x="344939" y="41369"/>
                </a:lnTo>
                <a:lnTo>
                  <a:pt x="337980" y="41051"/>
                </a:lnTo>
                <a:lnTo>
                  <a:pt x="331337" y="41369"/>
                </a:lnTo>
                <a:lnTo>
                  <a:pt x="324693" y="41687"/>
                </a:lnTo>
                <a:lnTo>
                  <a:pt x="318367" y="42642"/>
                </a:lnTo>
                <a:lnTo>
                  <a:pt x="312040" y="43279"/>
                </a:lnTo>
                <a:lnTo>
                  <a:pt x="305713" y="44552"/>
                </a:lnTo>
                <a:lnTo>
                  <a:pt x="299702" y="46143"/>
                </a:lnTo>
                <a:lnTo>
                  <a:pt x="293692" y="47734"/>
                </a:lnTo>
                <a:lnTo>
                  <a:pt x="287998" y="49961"/>
                </a:lnTo>
                <a:lnTo>
                  <a:pt x="282304" y="52189"/>
                </a:lnTo>
                <a:lnTo>
                  <a:pt x="276609" y="54416"/>
                </a:lnTo>
                <a:lnTo>
                  <a:pt x="270915" y="57280"/>
                </a:lnTo>
                <a:lnTo>
                  <a:pt x="265854" y="60463"/>
                </a:lnTo>
                <a:lnTo>
                  <a:pt x="260476" y="64281"/>
                </a:lnTo>
                <a:lnTo>
                  <a:pt x="255414" y="67782"/>
                </a:lnTo>
                <a:lnTo>
                  <a:pt x="250669" y="71919"/>
                </a:lnTo>
                <a:lnTo>
                  <a:pt x="245608" y="75737"/>
                </a:lnTo>
                <a:lnTo>
                  <a:pt x="238648" y="83057"/>
                </a:lnTo>
                <a:lnTo>
                  <a:pt x="232321" y="90057"/>
                </a:lnTo>
                <a:lnTo>
                  <a:pt x="226627" y="98013"/>
                </a:lnTo>
                <a:lnTo>
                  <a:pt x="221882" y="105332"/>
                </a:lnTo>
                <a:lnTo>
                  <a:pt x="217770" y="113606"/>
                </a:lnTo>
                <a:lnTo>
                  <a:pt x="214290" y="121880"/>
                </a:lnTo>
                <a:lnTo>
                  <a:pt x="211443" y="130472"/>
                </a:lnTo>
                <a:lnTo>
                  <a:pt x="209545" y="139700"/>
                </a:lnTo>
                <a:lnTo>
                  <a:pt x="208596" y="134927"/>
                </a:lnTo>
                <a:lnTo>
                  <a:pt x="208279" y="129517"/>
                </a:lnTo>
                <a:lnTo>
                  <a:pt x="207963" y="124107"/>
                </a:lnTo>
                <a:lnTo>
                  <a:pt x="207963" y="118698"/>
                </a:lnTo>
                <a:lnTo>
                  <a:pt x="207963" y="112651"/>
                </a:lnTo>
                <a:lnTo>
                  <a:pt x="208279" y="106605"/>
                </a:lnTo>
                <a:lnTo>
                  <a:pt x="209228" y="101195"/>
                </a:lnTo>
                <a:lnTo>
                  <a:pt x="210177" y="95149"/>
                </a:lnTo>
                <a:lnTo>
                  <a:pt x="211443" y="89421"/>
                </a:lnTo>
                <a:lnTo>
                  <a:pt x="213341" y="84011"/>
                </a:lnTo>
                <a:lnTo>
                  <a:pt x="214923" y="78601"/>
                </a:lnTo>
                <a:lnTo>
                  <a:pt x="217137" y="73510"/>
                </a:lnTo>
                <a:lnTo>
                  <a:pt x="219984" y="68100"/>
                </a:lnTo>
                <a:lnTo>
                  <a:pt x="222831" y="62690"/>
                </a:lnTo>
                <a:lnTo>
                  <a:pt x="225678" y="57599"/>
                </a:lnTo>
                <a:lnTo>
                  <a:pt x="229158" y="53144"/>
                </a:lnTo>
                <a:lnTo>
                  <a:pt x="232638" y="48052"/>
                </a:lnTo>
                <a:lnTo>
                  <a:pt x="236750" y="43597"/>
                </a:lnTo>
                <a:lnTo>
                  <a:pt x="241179" y="38823"/>
                </a:lnTo>
                <a:lnTo>
                  <a:pt x="245608" y="34687"/>
                </a:lnTo>
                <a:lnTo>
                  <a:pt x="250669" y="30550"/>
                </a:lnTo>
                <a:lnTo>
                  <a:pt x="255414" y="26413"/>
                </a:lnTo>
                <a:lnTo>
                  <a:pt x="260476" y="22594"/>
                </a:lnTo>
                <a:lnTo>
                  <a:pt x="265854" y="19412"/>
                </a:lnTo>
                <a:lnTo>
                  <a:pt x="270915" y="16230"/>
                </a:lnTo>
                <a:lnTo>
                  <a:pt x="276609" y="13366"/>
                </a:lnTo>
                <a:lnTo>
                  <a:pt x="282304" y="10820"/>
                </a:lnTo>
                <a:lnTo>
                  <a:pt x="287998" y="8274"/>
                </a:lnTo>
                <a:lnTo>
                  <a:pt x="293692" y="6683"/>
                </a:lnTo>
                <a:lnTo>
                  <a:pt x="299702" y="4774"/>
                </a:lnTo>
                <a:lnTo>
                  <a:pt x="305713" y="3182"/>
                </a:lnTo>
                <a:lnTo>
                  <a:pt x="312040" y="1910"/>
                </a:lnTo>
                <a:lnTo>
                  <a:pt x="318367" y="955"/>
                </a:lnTo>
                <a:lnTo>
                  <a:pt x="324693" y="318"/>
                </a:lnTo>
                <a:lnTo>
                  <a:pt x="331337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7EC8-4B2F-4101-85DD-190A3E43F8E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63FC-1210-4736-925A-A3F85ECE8B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F192-0802-4D80-B251-37C8D724B88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74DA-2777-4F01-BB31-3A2BF2C05F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08080" y="187452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on18 Look at M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475240" y="4427280"/>
            <a:ext cx="32544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Story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图片 1" descr="webwxgetmsgimg (4)"/>
          <p:cNvPicPr/>
          <p:nvPr/>
        </p:nvPicPr>
        <p:blipFill>
          <a:blip r:embed="rId1"/>
          <a:stretch/>
        </p:blipFill>
        <p:spPr>
          <a:xfrm rot="16200000">
            <a:off x="1787400" y="-1371960"/>
            <a:ext cx="5605560" cy="902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图片 14339" descr="t01c8deb30a2642fdd8"/>
          <p:cNvPicPr/>
          <p:nvPr/>
        </p:nvPicPr>
        <p:blipFill>
          <a:blip r:embed="rId1"/>
          <a:stretch/>
        </p:blipFill>
        <p:spPr>
          <a:xfrm>
            <a:off x="611280" y="177336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14340" descr="t01d1af3625a0952321"/>
          <p:cNvPicPr/>
          <p:nvPr/>
        </p:nvPicPr>
        <p:blipFill>
          <a:blip r:embed="rId2"/>
          <a:stretch/>
        </p:blipFill>
        <p:spPr>
          <a:xfrm>
            <a:off x="75564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14341" descr="t0138266e684cde8b13"/>
          <p:cNvPicPr/>
          <p:nvPr/>
        </p:nvPicPr>
        <p:blipFill>
          <a:blip r:embed="rId3"/>
          <a:stretch/>
        </p:blipFill>
        <p:spPr>
          <a:xfrm>
            <a:off x="5003640" y="549360"/>
            <a:ext cx="3456000" cy="304776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14342" descr="t0165ccde90bb44ed63"/>
          <p:cNvPicPr/>
          <p:nvPr/>
        </p:nvPicPr>
        <p:blipFill>
          <a:blip r:embed="rId4"/>
          <a:stretch/>
        </p:blipFill>
        <p:spPr>
          <a:xfrm>
            <a:off x="4932360" y="3645000"/>
            <a:ext cx="3708360" cy="304776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14343"/>
          <p:cNvSpPr/>
          <p:nvPr/>
        </p:nvSpPr>
        <p:spPr>
          <a:xfrm>
            <a:off x="324000" y="765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e …(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身体部位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)are /is …(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颜色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标题 15361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132552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图片 1" descr="webwxgetmsgimg (2)"/>
          <p:cNvPicPr/>
          <p:nvPr/>
        </p:nvPicPr>
        <p:blipFill>
          <a:blip r:embed="rId2"/>
          <a:stretch/>
        </p:blipFill>
        <p:spPr>
          <a:xfrm rot="16200000">
            <a:off x="1922400" y="-443520"/>
            <a:ext cx="5334120" cy="90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标题 1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1325520"/>
          </a:xfrm>
          <a:prstGeom prst="rect">
            <a:avLst/>
          </a:prstGeom>
          <a:ln w="0">
            <a:noFill/>
          </a:ln>
        </p:spPr>
      </p:pic>
      <p:pic>
        <p:nvPicPr>
          <p:cNvPr id="584" name="内容占位符 2" descr=""/>
          <p:cNvPicPr/>
          <p:nvPr/>
        </p:nvPicPr>
        <p:blipFill>
          <a:blip r:embed="rId2"/>
          <a:stretch/>
        </p:blipFill>
        <p:spPr>
          <a:xfrm>
            <a:off x="628560" y="1825560"/>
            <a:ext cx="7886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3076" descr="t0153f05c8388ce7b4f"/>
          <p:cNvPicPr/>
          <p:nvPr/>
        </p:nvPicPr>
        <p:blipFill>
          <a:blip r:embed="rId1"/>
          <a:stretch/>
        </p:blipFill>
        <p:spPr>
          <a:xfrm>
            <a:off x="147600" y="646200"/>
            <a:ext cx="3683160" cy="5079960"/>
          </a:xfrm>
          <a:prstGeom prst="rect">
            <a:avLst/>
          </a:prstGeom>
          <a:ln w="0">
            <a:noFill/>
          </a:ln>
        </p:spPr>
      </p:pic>
      <p:pic>
        <p:nvPicPr>
          <p:cNvPr id="555" name="文本框 1" descr=""/>
          <p:cNvPicPr/>
          <p:nvPr/>
        </p:nvPicPr>
        <p:blipFill>
          <a:blip r:embed="rId2"/>
          <a:stretch/>
        </p:blipFill>
        <p:spPr>
          <a:xfrm>
            <a:off x="5265720" y="2894040"/>
            <a:ext cx="436716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4099" descr="1af90003fec258f7f4ce"/>
          <p:cNvPicPr/>
          <p:nvPr/>
        </p:nvPicPr>
        <p:blipFill>
          <a:blip r:embed="rId1"/>
          <a:stretch/>
        </p:blipFill>
        <p:spPr>
          <a:xfrm>
            <a:off x="495360" y="781200"/>
            <a:ext cx="3079800" cy="4881240"/>
          </a:xfrm>
          <a:prstGeom prst="rect">
            <a:avLst/>
          </a:prstGeom>
          <a:ln w="0">
            <a:noFill/>
          </a:ln>
        </p:spPr>
      </p:pic>
      <p:sp>
        <p:nvSpPr>
          <p:cNvPr id="557" name="文本框 1"/>
          <p:cNvSpPr/>
          <p:nvPr/>
        </p:nvSpPr>
        <p:spPr>
          <a:xfrm>
            <a:off x="4519440" y="2655720"/>
            <a:ext cx="362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three   ha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图片 5123" descr="t0115745a12bba58bb7"/>
          <p:cNvPicPr/>
          <p:nvPr/>
        </p:nvPicPr>
        <p:blipFill>
          <a:blip r:embed="rId1"/>
          <a:stretch/>
        </p:blipFill>
        <p:spPr>
          <a:xfrm>
            <a:off x="326880" y="792000"/>
            <a:ext cx="4292640" cy="4372200"/>
          </a:xfrm>
          <a:prstGeom prst="rect">
            <a:avLst/>
          </a:prstGeom>
          <a:ln w="0">
            <a:noFill/>
          </a:ln>
        </p:spPr>
      </p:pic>
      <p:sp>
        <p:nvSpPr>
          <p:cNvPr id="559" name="文本框 1"/>
          <p:cNvSpPr/>
          <p:nvPr/>
        </p:nvSpPr>
        <p:spPr>
          <a:xfrm>
            <a:off x="5499000" y="2793960"/>
            <a:ext cx="31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75b6"/>
                </a:solidFill>
                <a:latin typeface="Arial"/>
              </a:rPr>
              <a:t>blue   ey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图片 7171" descr="null_841267422_800x800_w1"/>
          <p:cNvPicPr/>
          <p:nvPr/>
        </p:nvPicPr>
        <p:blipFill>
          <a:blip r:embed="rId1"/>
          <a:stretch/>
        </p:blipFill>
        <p:spPr>
          <a:xfrm>
            <a:off x="290520" y="727200"/>
            <a:ext cx="4481640" cy="5079960"/>
          </a:xfrm>
          <a:prstGeom prst="rect">
            <a:avLst/>
          </a:prstGeom>
          <a:ln w="0">
            <a:noFill/>
          </a:ln>
        </p:spPr>
      </p:pic>
      <p:sp>
        <p:nvSpPr>
          <p:cNvPr id="561" name="文本框 1"/>
          <p:cNvSpPr/>
          <p:nvPr/>
        </p:nvSpPr>
        <p:spPr>
          <a:xfrm>
            <a:off x="4975200" y="2644920"/>
            <a:ext cx="38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green  ha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8195" descr="t0153f05c8388ce7b4f"/>
          <p:cNvPicPr/>
          <p:nvPr/>
        </p:nvPicPr>
        <p:blipFill>
          <a:blip r:embed="rId1"/>
          <a:stretch/>
        </p:blipFill>
        <p:spPr>
          <a:xfrm>
            <a:off x="395280" y="1628640"/>
            <a:ext cx="4248000" cy="288000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8196" descr="1af90003fec258f7f4ce"/>
          <p:cNvPicPr/>
          <p:nvPr/>
        </p:nvPicPr>
        <p:blipFill>
          <a:blip r:embed="rId2"/>
          <a:stretch/>
        </p:blipFill>
        <p:spPr>
          <a:xfrm>
            <a:off x="5292720" y="1628640"/>
            <a:ext cx="3375000" cy="28083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8197" descr="t0115745a12bba58bb7"/>
          <p:cNvPicPr/>
          <p:nvPr/>
        </p:nvPicPr>
        <p:blipFill>
          <a:blip r:embed="rId3"/>
          <a:stretch/>
        </p:blipFill>
        <p:spPr>
          <a:xfrm>
            <a:off x="395280" y="4508640"/>
            <a:ext cx="4248000" cy="23493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8198" descr="null_841267422_800x800_w1"/>
          <p:cNvPicPr/>
          <p:nvPr/>
        </p:nvPicPr>
        <p:blipFill>
          <a:blip r:embed="rId4"/>
          <a:stretch/>
        </p:blipFill>
        <p:spPr>
          <a:xfrm>
            <a:off x="5292720" y="4508640"/>
            <a:ext cx="3382920" cy="234936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A: What colour is your …?  </a:t>
            </a:r>
            <a:br>
              <a:rPr sz="3600"/>
            </a:b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B: My …is/are…(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颜色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图片 1" descr="webwxgetmsgimg (1)"/>
          <p:cNvPicPr/>
          <p:nvPr/>
        </p:nvPicPr>
        <p:blipFill>
          <a:blip r:embed="rId1"/>
          <a:stretch/>
        </p:blipFill>
        <p:spPr>
          <a:xfrm rot="16200000">
            <a:off x="1646280" y="-984240"/>
            <a:ext cx="5837040" cy="882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内容占位符 3" descr="webwxgetmsgimg"/>
          <p:cNvPicPr/>
          <p:nvPr/>
        </p:nvPicPr>
        <p:blipFill>
          <a:blip r:embed="rId1"/>
          <a:stretch/>
        </p:blipFill>
        <p:spPr>
          <a:xfrm rot="16200000">
            <a:off x="2007720" y="-1280880"/>
            <a:ext cx="5042160" cy="912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图片 1" descr="webwxgetmsgimg (3)"/>
          <p:cNvPicPr/>
          <p:nvPr/>
        </p:nvPicPr>
        <p:blipFill>
          <a:blip r:embed="rId1"/>
          <a:stretch/>
        </p:blipFill>
        <p:spPr>
          <a:xfrm rot="16200000">
            <a:off x="1438920" y="-1037520"/>
            <a:ext cx="581184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3T01:43:41Z</dcterms:created>
  <dc:creator>AutoBVT</dc:creator>
  <dc:description/>
  <dc:language>en-US</dc:language>
  <cp:lastModifiedBy>Administrator</cp:lastModifiedBy>
  <dcterms:modified xsi:type="dcterms:W3CDTF">2017-12-13T02:57:34Z</dcterms:modified>
  <cp:revision>4</cp:revision>
  <dc:subject/>
  <dc:title>Lesson18 Look at M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</Properties>
</file>